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6755-8181-49FC-96A5-099DAF505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D6B2-1D3C-4419-AFFF-8E9C9274C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F1CA0-4024-4A31-B189-5E0FE6495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C326-5714-4CCD-AB04-E1C286E8EA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15DC-75C9-4FD8-80F6-BC033168FA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FD18-96EA-4266-BB78-97ADB21E7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0455-FC46-44EA-AC73-AB29CA22B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D169-02F5-4F0D-8BE9-24C3825CB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F05C-3FCD-491E-81A8-31D4360C8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90E3-05B8-472E-906F-5F1B92A9E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A596-1D5A-4624-BD8B-0CF22574A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D116-B9D9-4795-BB1A-36CB7DCA5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8C93-8FD6-4B59-81FC-DA0D708F9FC1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78640"/>
            <a:ext cx="883944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8680" cy="4680"/>
          </a:xfrm>
          <a:custGeom>
            <a:avLst/>
            <a:gdLst/>
            <a:ahLst/>
            <a:rect l="l" t="t" r="r" b="b"/>
            <a:pathLst>
              <a:path w="5763" h="3">
                <a:moveTo>
                  <a:pt x="0" y="0"/>
                </a:moveTo>
                <a:lnTo>
                  <a:pt x="5763" y="3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56604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Arial"/>
              </a:rPr>
              <a:t>Marzo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80880" y="4038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533520"/>
            <a:ext cx="4267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ui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naturales con altos  niveles protéicos y calóric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con poca probabilidad de sustitución.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productor de alimentos marinos a nivel mundial, 38% producción mundial en 200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El 40% de la producción de alimentos marinos es acuicultur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demandante de harina de pescado a nivel mundial, consume 30% producción mundi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x8002e0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88620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5257800" y="2597040"/>
          <a:ext cx="2895480" cy="83160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723960"/>
                <a:gridCol w="72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609480" y="3836880"/>
            <a:ext cx="3962520" cy="262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3520" y="6400800"/>
            <a:ext cx="487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ff0000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8672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! Evaluar y Cuantificar el efecto en las exportaciones pesqueras, de la aprobación de Salvaguardas a los textiles Chinos 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4290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3333cc"/>
                </a:solidFill>
                <a:latin typeface="Times New Roman"/>
              </a:rPr>
              <a:t>Crecimiento de los usos de Harina y Aceite en la acuicul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31160" y="35812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D42F-D531-4033-816F-E7F7D54068CD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75000"/>
            <a:ext cx="388620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Los años 90 fueron el inicio de las Harinas Steam, actualmente al 2003 se alcanza una participación del total 4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Adecuación de las plantas industriales a los </a:t>
            </a:r>
            <a:r>
              <a:rPr b="0" lang="es-PE" sz="1400" spc="-1" strike="noStrike">
                <a:solidFill>
                  <a:srgbClr val="ff0000"/>
                </a:solidFill>
                <a:latin typeface="Times New Roman"/>
              </a:rPr>
              <a:t>programas de adecuamiento de medio amb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Obtención de certificación de procesos productivos por parte de organizaciones internacionales: Haccp, GMP13, F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9200" y="1797120"/>
            <a:ext cx="3807000" cy="26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873000" y="2285640"/>
            <a:ext cx="3775320" cy="176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87480" y="2662200"/>
            <a:ext cx="226800" cy="11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2880" y="2749680"/>
            <a:ext cx="227160" cy="110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97200" y="2803680"/>
            <a:ext cx="228600" cy="104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52600" y="2898720"/>
            <a:ext cx="228600" cy="95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08360" y="2968560"/>
            <a:ext cx="22680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3760" y="2968560"/>
            <a:ext cx="22716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18080" y="2978280"/>
            <a:ext cx="228600" cy="87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87480" y="2330280"/>
            <a:ext cx="226800" cy="33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2880" y="2330280"/>
            <a:ext cx="227160" cy="419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97200" y="2365200"/>
            <a:ext cx="228600" cy="4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52600" y="2365200"/>
            <a:ext cx="228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08360" y="2390760"/>
            <a:ext cx="22680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63760" y="2408400"/>
            <a:ext cx="227160" cy="560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18080" y="2417760"/>
            <a:ext cx="228600" cy="560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87480" y="2303640"/>
            <a:ext cx="22680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2880" y="2303640"/>
            <a:ext cx="22716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72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526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08360" y="2303640"/>
            <a:ext cx="226800" cy="8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3760" y="2303640"/>
            <a:ext cx="227160" cy="1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18080" y="2303640"/>
            <a:ext cx="22860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3000" y="2303640"/>
            <a:ext cx="1800" cy="1549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00" y="3852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354636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7800" y="323208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7800" y="2925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7800" y="261000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7800" y="230364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73000" y="354168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73000" y="3222720"/>
            <a:ext cx="380232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73000" y="291132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73000" y="2590920"/>
            <a:ext cx="3775320" cy="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73000" y="3852720"/>
            <a:ext cx="380232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7300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32876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78452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23848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9388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14964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6050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1036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07800" y="1874880"/>
            <a:ext cx="2752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EVOLUCIÓN DE LA PRODUCCIÓN DE HARINA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9000" y="202392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PESCADO SEGÚN T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9760" y="379260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720" y="34862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720" y="317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9720" y="2863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9720" y="25495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0040" y="224316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281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8212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378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32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4724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0300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587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84520" y="4186080"/>
            <a:ext cx="1365120" cy="192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9440" y="4246560"/>
            <a:ext cx="60120" cy="61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3120" y="421164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F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3080" y="4246560"/>
            <a:ext cx="60480" cy="6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63320" y="42116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02000" y="4246560"/>
            <a:ext cx="60120" cy="61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8760" y="4211640"/>
            <a:ext cx="56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80"/>
                </a:solidFill>
                <a:latin typeface="Arial"/>
              </a:rPr>
              <a:t>Super 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620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1523880" y="2924280"/>
            <a:ext cx="1905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91440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Resultados de laTransformación Industr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3680" y="4570560"/>
            <a:ext cx="41670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8160" y="5972040"/>
            <a:ext cx="103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1/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Enero </a:t>
            </a: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 del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85840" y="5970600"/>
            <a:ext cx="182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Fuente: Ministerio de Pesquer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920" y="457344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Arial"/>
              </a:rPr>
              <a:t>FLOTA 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ransformació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4335480" cy="11080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159080" y="2971800"/>
            <a:ext cx="260640" cy="87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59080" y="2362320"/>
            <a:ext cx="26064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286000"/>
            <a:ext cx="260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86000" y="388620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80"/>
                </a:solidFill>
                <a:latin typeface="Arial"/>
              </a:rPr>
              <a:t>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71A8-0D16-49BB-8FC6-BA944DAD9E9E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80880" y="99072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Nuestra participación a nivel mundial en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conservas y congelados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es reducida, en promedio se encuentra alrededor de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2.4% y 0.6%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respectivame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066680" y="1781280"/>
            <a:ext cx="6782040" cy="4314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146600" y="3049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1120" y="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017A-339C-4600-BAA9-309BFC8215E8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8827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diversas especies, de las cuales para el negocio de conservas se utilizan principalmente el jurel y la caball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2895480" cy="2409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133720" y="2476440"/>
            <a:ext cx="4752720" cy="1333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062160" y="2819520"/>
            <a:ext cx="17528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62560" y="2975040"/>
            <a:ext cx="762120" cy="530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6765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serva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50920" y="461016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519912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50920" y="5396040"/>
            <a:ext cx="410040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48080" y="4613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06960" y="46134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50400" y="461340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7160" y="481644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95520" y="48164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,666,2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71200" y="48164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,447,56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17520" y="5011560"/>
            <a:ext cx="119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ORT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95520" y="50115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,209,0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71200" y="50115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1,624,60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17520" y="520236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9480" y="5202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875,24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5160" y="52023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,072,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76480" y="543096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Fuente: Apoy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4602240"/>
            <a:ext cx="1440" cy="79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43000" y="4602240"/>
            <a:ext cx="15840" cy="79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4618080"/>
            <a:ext cx="180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4618080"/>
            <a:ext cx="1440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7988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7988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4196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196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60224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60224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79916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58840" y="479916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8840" y="499428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8840" y="499428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58840" y="519120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58840" y="519120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58840" y="538812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58840" y="538812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0D03-CE74-4216-8E80-582BFD306C93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8580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92960" y="838080"/>
            <a:ext cx="73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el Jurel, Caballa, la Merluza y la Pota para el negocio de congelad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219480" cy="2219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648320" y="2082960"/>
            <a:ext cx="4295520" cy="14983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6235560" y="2351160"/>
            <a:ext cx="130824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72400" y="2540160"/>
            <a:ext cx="129528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386920" y="2801880"/>
            <a:ext cx="75708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17080" y="3116160"/>
            <a:ext cx="826920" cy="185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14479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gelad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1447920"/>
            <a:ext cx="799956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200" y="17748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480" y="17748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6960" y="1774800"/>
            <a:ext cx="173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JUREL, CABALLA Y SARD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19200" y="17748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840" y="1984320"/>
            <a:ext cx="31082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976400"/>
            <a:ext cx="3124080" cy="1584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070000"/>
            <a:ext cx="13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5480" y="2070000"/>
            <a:ext cx="417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de cerco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rige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23050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1880" y="2305080"/>
            <a:ext cx="292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Mercado grande con  márgenes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importantes en volúm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2532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4040" y="25322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 es la capacidad de plan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768760"/>
            <a:ext cx="164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4040" y="2768760"/>
            <a:ext cx="25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Diversificar productos: Entero, Filetes, HGT, e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29955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2640" y="299556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81360" y="2995560"/>
            <a:ext cx="30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 exportación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y opción de consolidar en el mercado local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4960" y="322272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8240" y="3222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6760" y="3222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84000" y="322272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840" y="3433680"/>
            <a:ext cx="34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3424320"/>
            <a:ext cx="507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3600" y="3433680"/>
            <a:ext cx="15494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5680" y="3424320"/>
            <a:ext cx="1565280" cy="1728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3459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3000" y="3459240"/>
            <a:ext cx="31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0400" y="345924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astr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36860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3360" y="3686040"/>
            <a:ext cx="305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la materia prim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recurso en recuperación.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391320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0480" y="3913200"/>
            <a:ext cx="129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ción solo en Pai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1497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280" y="41497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4960" y="45036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8240" y="4503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1960" y="4503600"/>
            <a:ext cx="174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ARIADOS (DE TEMPOR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62040" y="45036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840" y="4713120"/>
            <a:ext cx="31496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4705200"/>
            <a:ext cx="3165480" cy="1620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47815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400" y="4781520"/>
            <a:ext cx="323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ota, calamar, tiburón, pulpo, langostino,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chas,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anguila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50338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4080" y="5033880"/>
            <a:ext cx="354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artesa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5286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3000" y="5286240"/>
            <a:ext cx="195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critico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 recursos de tempo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04920" y="55389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1200" y="5538960"/>
            <a:ext cx="19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importantes márg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920" y="57913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2280" y="57913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B228-0C25-4218-87D2-08B5369B65FF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57200" y="2265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guir con la tendenci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de producir Harina y Aceite de alta ca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3505320"/>
            <a:ext cx="8229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acelerar el proceso de contar con una marca de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Denominación de Origen”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-76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808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93CF-71CF-42AD-98DE-7914FAF3208F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3520" y="1444680"/>
            <a:ext cx="807696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vertir en almacenes de fri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darle sostenimiento productivo en el tiempo a las especies estacionales, Jurel-Caball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1400" y="4983120"/>
            <a:ext cx="8386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Atún: Revisa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regulación impositiv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, a fin de poder lograr alianzas estratég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3200" y="4038480"/>
            <a:ext cx="5117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conserver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9960" y="3002040"/>
            <a:ext cx="835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ir adquiriendo mejo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 en la conserverí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 para ser competi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47DD-F4CA-4775-BB59-AAA4BFC18BDA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3520" y="1444680"/>
            <a:ext cx="77724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 algn="just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Obtene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formación de Biomas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(Cientifica-Biológica:IMARPE) de las principales especies comerciales (Jurel, Caballa, Calamar, Perico, Anguila,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094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1400" y="5105520"/>
            <a:ext cx="586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 un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dena de frí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el mercado loc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4640" y="4114800"/>
            <a:ext cx="536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del congel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4920" y="2971800"/>
            <a:ext cx="8610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Cre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alianzas estratégicas con productos de valor agreg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y consumo final en destinos (ejem: empanizados, lomos cocidos, etc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1B2F-D1E0-4F49-A553-EA3886C726FB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-76320" y="76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02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148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7712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838080" y="2487600"/>
            <a:ext cx="7543440" cy="2391120"/>
            <a:chOff x="838080" y="2487600"/>
            <a:chExt cx="7543440" cy="2391120"/>
          </a:xfrm>
        </p:grpSpPr>
        <p:graphicFrame>
          <p:nvGraphicFramePr>
            <p:cNvPr id="780" name=""/>
            <p:cNvGraphicFramePr/>
            <p:nvPr/>
          </p:nvGraphicFramePr>
          <p:xfrm>
            <a:off x="3301200" y="2487600"/>
            <a:ext cx="2617200" cy="23623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0120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"/>
            <p:cNvGraphicFramePr/>
            <p:nvPr/>
          </p:nvGraphicFramePr>
          <p:xfrm>
            <a:off x="5764320" y="2487600"/>
            <a:ext cx="2617200" cy="23623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4" name=""/>
            <p:cNvGraphicFramePr/>
            <p:nvPr/>
          </p:nvGraphicFramePr>
          <p:xfrm>
            <a:off x="838080" y="2487600"/>
            <a:ext cx="2616840" cy="2362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7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2487600"/>
                      <a:ext cx="261684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6" name=""/>
            <p:cNvSpPr/>
            <p:nvPr/>
          </p:nvSpPr>
          <p:spPr>
            <a:xfrm>
              <a:off x="260964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1540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7816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0000" y="3904920"/>
              <a:ext cx="41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1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2908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83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6664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5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38520" y="28249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71280" y="2950200"/>
              <a:ext cx="16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71280" y="29851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03680" y="31107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16600" y="343224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1880" y="355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6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82120" y="279972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01280" y="29235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2,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26080" y="264636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47400" y="277164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,7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39320" y="262224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77560" y="274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6280" y="256896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41440" y="25563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0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48880" y="255636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12600" y="26841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.7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10520" y="284328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69200" y="2972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2.6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45572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4302000" y="2757600"/>
              <a:ext cx="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99624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39640" y="4647600"/>
              <a:ext cx="1490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120´398,00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13040" y="4647600"/>
              <a:ext cx="1361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32´566,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38720" y="4647600"/>
              <a:ext cx="142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91´000,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676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% 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51642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 % S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4876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8769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1120" y="52578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58D7-4880-4887-8596-FA2B0C02B8D7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825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 u="sng">
                <a:solidFill>
                  <a:srgbClr val="ff0000"/>
                </a:solidFill>
                <a:uFillTx/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835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98E5-6D28-464A-B72C-5DF717435337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58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82960"/>
            <a:ext cx="2471400" cy="488520"/>
            <a:chOff x="3200400" y="3882960"/>
            <a:chExt cx="2471400" cy="488520"/>
          </a:xfrm>
        </p:grpSpPr>
        <p:sp>
          <p:nvSpPr>
            <p:cNvPr id="65" name=""/>
            <p:cNvSpPr/>
            <p:nvPr/>
          </p:nvSpPr>
          <p:spPr>
            <a:xfrm>
              <a:off x="3467160" y="4057920"/>
              <a:ext cx="18180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¿ CONFLICTO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82960"/>
              <a:ext cx="24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71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D1C3-7C87-4F16-8F0F-F169F8764C00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8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8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09680" y="3311640"/>
            <a:ext cx="382680" cy="887400"/>
          </a:xfrm>
          <a:custGeom>
            <a:avLst/>
            <a:gdLst/>
            <a:ahLst/>
            <a:rect l="l" t="t" r="r" b="b"/>
            <a:pathLst>
              <a:path w="236" h="474">
                <a:moveTo>
                  <a:pt x="236" y="268"/>
                </a:moveTo>
                <a:lnTo>
                  <a:pt x="227" y="261"/>
                </a:lnTo>
                <a:lnTo>
                  <a:pt x="213" y="257"/>
                </a:lnTo>
                <a:lnTo>
                  <a:pt x="205" y="250"/>
                </a:lnTo>
                <a:lnTo>
                  <a:pt x="196" y="246"/>
                </a:lnTo>
                <a:lnTo>
                  <a:pt x="182" y="239"/>
                </a:lnTo>
                <a:lnTo>
                  <a:pt x="173" y="232"/>
                </a:lnTo>
                <a:lnTo>
                  <a:pt x="164" y="228"/>
                </a:lnTo>
                <a:lnTo>
                  <a:pt x="156" y="221"/>
                </a:lnTo>
                <a:lnTo>
                  <a:pt x="147" y="214"/>
                </a:lnTo>
                <a:lnTo>
                  <a:pt x="133" y="210"/>
                </a:lnTo>
                <a:lnTo>
                  <a:pt x="133" y="210"/>
                </a:lnTo>
                <a:lnTo>
                  <a:pt x="129" y="203"/>
                </a:lnTo>
                <a:lnTo>
                  <a:pt x="120" y="196"/>
                </a:lnTo>
                <a:lnTo>
                  <a:pt x="111" y="189"/>
                </a:lnTo>
                <a:lnTo>
                  <a:pt x="102" y="181"/>
                </a:lnTo>
                <a:lnTo>
                  <a:pt x="93" y="178"/>
                </a:lnTo>
                <a:lnTo>
                  <a:pt x="89" y="170"/>
                </a:lnTo>
                <a:lnTo>
                  <a:pt x="80" y="163"/>
                </a:lnTo>
                <a:lnTo>
                  <a:pt x="71" y="156"/>
                </a:lnTo>
                <a:lnTo>
                  <a:pt x="66" y="149"/>
                </a:lnTo>
                <a:lnTo>
                  <a:pt x="62" y="141"/>
                </a:lnTo>
                <a:lnTo>
                  <a:pt x="53" y="138"/>
                </a:lnTo>
                <a:lnTo>
                  <a:pt x="49" y="131"/>
                </a:lnTo>
                <a:lnTo>
                  <a:pt x="44" y="123"/>
                </a:lnTo>
                <a:lnTo>
                  <a:pt x="40" y="116"/>
                </a:lnTo>
                <a:lnTo>
                  <a:pt x="35" y="109"/>
                </a:lnTo>
                <a:lnTo>
                  <a:pt x="31" y="102"/>
                </a:lnTo>
                <a:lnTo>
                  <a:pt x="26" y="94"/>
                </a:lnTo>
                <a:lnTo>
                  <a:pt x="22" y="87"/>
                </a:lnTo>
                <a:lnTo>
                  <a:pt x="17" y="80"/>
                </a:lnTo>
                <a:lnTo>
                  <a:pt x="13" y="73"/>
                </a:lnTo>
                <a:lnTo>
                  <a:pt x="13" y="73"/>
                </a:lnTo>
                <a:lnTo>
                  <a:pt x="13" y="65"/>
                </a:lnTo>
                <a:lnTo>
                  <a:pt x="9" y="58"/>
                </a:lnTo>
                <a:lnTo>
                  <a:pt x="4" y="51"/>
                </a:lnTo>
                <a:lnTo>
                  <a:pt x="4" y="44"/>
                </a:lnTo>
                <a:lnTo>
                  <a:pt x="4" y="36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0" y="207"/>
                </a:lnTo>
                <a:lnTo>
                  <a:pt x="0" y="214"/>
                </a:lnTo>
                <a:lnTo>
                  <a:pt x="0" y="221"/>
                </a:lnTo>
                <a:lnTo>
                  <a:pt x="0" y="228"/>
                </a:lnTo>
                <a:lnTo>
                  <a:pt x="0" y="236"/>
                </a:lnTo>
                <a:lnTo>
                  <a:pt x="4" y="243"/>
                </a:lnTo>
                <a:lnTo>
                  <a:pt x="4" y="250"/>
                </a:lnTo>
                <a:lnTo>
                  <a:pt x="4" y="257"/>
                </a:lnTo>
                <a:lnTo>
                  <a:pt x="9" y="265"/>
                </a:lnTo>
                <a:lnTo>
                  <a:pt x="13" y="272"/>
                </a:lnTo>
                <a:lnTo>
                  <a:pt x="13" y="279"/>
                </a:lnTo>
                <a:lnTo>
                  <a:pt x="13" y="279"/>
                </a:lnTo>
                <a:lnTo>
                  <a:pt x="17" y="286"/>
                </a:lnTo>
                <a:lnTo>
                  <a:pt x="22" y="293"/>
                </a:lnTo>
                <a:lnTo>
                  <a:pt x="26" y="301"/>
                </a:lnTo>
                <a:lnTo>
                  <a:pt x="31" y="308"/>
                </a:lnTo>
                <a:lnTo>
                  <a:pt x="35" y="315"/>
                </a:lnTo>
                <a:lnTo>
                  <a:pt x="40" y="322"/>
                </a:lnTo>
                <a:lnTo>
                  <a:pt x="44" y="330"/>
                </a:lnTo>
                <a:lnTo>
                  <a:pt x="49" y="337"/>
                </a:lnTo>
                <a:lnTo>
                  <a:pt x="53" y="344"/>
                </a:lnTo>
                <a:lnTo>
                  <a:pt x="62" y="348"/>
                </a:lnTo>
                <a:lnTo>
                  <a:pt x="66" y="355"/>
                </a:lnTo>
                <a:lnTo>
                  <a:pt x="71" y="362"/>
                </a:lnTo>
                <a:lnTo>
                  <a:pt x="80" y="370"/>
                </a:lnTo>
                <a:lnTo>
                  <a:pt x="89" y="377"/>
                </a:lnTo>
                <a:lnTo>
                  <a:pt x="93" y="384"/>
                </a:lnTo>
                <a:lnTo>
                  <a:pt x="102" y="388"/>
                </a:lnTo>
                <a:lnTo>
                  <a:pt x="111" y="395"/>
                </a:lnTo>
                <a:lnTo>
                  <a:pt x="120" y="402"/>
                </a:lnTo>
                <a:lnTo>
                  <a:pt x="129" y="409"/>
                </a:lnTo>
                <a:lnTo>
                  <a:pt x="133" y="417"/>
                </a:lnTo>
                <a:lnTo>
                  <a:pt x="133" y="417"/>
                </a:lnTo>
                <a:lnTo>
                  <a:pt x="147" y="420"/>
                </a:lnTo>
                <a:lnTo>
                  <a:pt x="156" y="427"/>
                </a:lnTo>
                <a:lnTo>
                  <a:pt x="164" y="435"/>
                </a:lnTo>
                <a:lnTo>
                  <a:pt x="173" y="438"/>
                </a:lnTo>
                <a:lnTo>
                  <a:pt x="182" y="446"/>
                </a:lnTo>
                <a:lnTo>
                  <a:pt x="196" y="453"/>
                </a:lnTo>
                <a:lnTo>
                  <a:pt x="205" y="456"/>
                </a:lnTo>
                <a:lnTo>
                  <a:pt x="213" y="464"/>
                </a:lnTo>
                <a:lnTo>
                  <a:pt x="227" y="467"/>
                </a:lnTo>
                <a:lnTo>
                  <a:pt x="236" y="474"/>
                </a:lnTo>
                <a:lnTo>
                  <a:pt x="236" y="268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316320"/>
            <a:ext cx="1273320" cy="890640"/>
          </a:xfrm>
          <a:custGeom>
            <a:avLst/>
            <a:gdLst/>
            <a:ahLst/>
            <a:rect l="l" t="t" r="r" b="b"/>
            <a:pathLst>
              <a:path w="784" h="474">
                <a:moveTo>
                  <a:pt x="784" y="0"/>
                </a:moveTo>
                <a:lnTo>
                  <a:pt x="0" y="268"/>
                </a:lnTo>
                <a:lnTo>
                  <a:pt x="0" y="474"/>
                </a:lnTo>
                <a:lnTo>
                  <a:pt x="784" y="206"/>
                </a:lnTo>
                <a:lnTo>
                  <a:pt x="784" y="0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5680" y="3051000"/>
            <a:ext cx="1557360" cy="654120"/>
          </a:xfrm>
          <a:custGeom>
            <a:avLst/>
            <a:gdLst/>
            <a:ahLst/>
            <a:rect l="l" t="t" r="r" b="b"/>
            <a:pathLst>
              <a:path w="958" h="347">
                <a:moveTo>
                  <a:pt x="0" y="141"/>
                </a:moveTo>
                <a:lnTo>
                  <a:pt x="958" y="0"/>
                </a:lnTo>
                <a:lnTo>
                  <a:pt x="958" y="206"/>
                </a:lnTo>
                <a:lnTo>
                  <a:pt x="0" y="347"/>
                </a:lnTo>
                <a:lnTo>
                  <a:pt x="0" y="141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620800"/>
            <a:ext cx="3218040" cy="1284480"/>
          </a:xfrm>
          <a:custGeom>
            <a:avLst/>
            <a:gdLst/>
            <a:ahLst/>
            <a:rect l="l" t="t" r="r" b="b"/>
            <a:pathLst>
              <a:path w="1982" h="684">
                <a:moveTo>
                  <a:pt x="236" y="684"/>
                </a:moveTo>
                <a:lnTo>
                  <a:pt x="227" y="677"/>
                </a:lnTo>
                <a:lnTo>
                  <a:pt x="213" y="673"/>
                </a:lnTo>
                <a:lnTo>
                  <a:pt x="205" y="666"/>
                </a:lnTo>
                <a:lnTo>
                  <a:pt x="196" y="658"/>
                </a:lnTo>
                <a:lnTo>
                  <a:pt x="182" y="655"/>
                </a:lnTo>
                <a:lnTo>
                  <a:pt x="173" y="648"/>
                </a:lnTo>
                <a:lnTo>
                  <a:pt x="164" y="640"/>
                </a:lnTo>
                <a:lnTo>
                  <a:pt x="156" y="637"/>
                </a:lnTo>
                <a:lnTo>
                  <a:pt x="147" y="629"/>
                </a:lnTo>
                <a:lnTo>
                  <a:pt x="133" y="622"/>
                </a:lnTo>
                <a:lnTo>
                  <a:pt x="129" y="619"/>
                </a:lnTo>
                <a:lnTo>
                  <a:pt x="120" y="611"/>
                </a:lnTo>
                <a:lnTo>
                  <a:pt x="111" y="604"/>
                </a:lnTo>
                <a:lnTo>
                  <a:pt x="102" y="597"/>
                </a:lnTo>
                <a:lnTo>
                  <a:pt x="93" y="590"/>
                </a:lnTo>
                <a:lnTo>
                  <a:pt x="89" y="586"/>
                </a:lnTo>
                <a:lnTo>
                  <a:pt x="80" y="579"/>
                </a:lnTo>
                <a:lnTo>
                  <a:pt x="71" y="572"/>
                </a:lnTo>
                <a:lnTo>
                  <a:pt x="66" y="564"/>
                </a:lnTo>
                <a:lnTo>
                  <a:pt x="62" y="557"/>
                </a:lnTo>
                <a:lnTo>
                  <a:pt x="53" y="550"/>
                </a:lnTo>
                <a:lnTo>
                  <a:pt x="49" y="543"/>
                </a:lnTo>
                <a:lnTo>
                  <a:pt x="44" y="535"/>
                </a:lnTo>
                <a:lnTo>
                  <a:pt x="40" y="528"/>
                </a:lnTo>
                <a:lnTo>
                  <a:pt x="35" y="524"/>
                </a:lnTo>
                <a:lnTo>
                  <a:pt x="31" y="517"/>
                </a:lnTo>
                <a:lnTo>
                  <a:pt x="26" y="510"/>
                </a:lnTo>
                <a:lnTo>
                  <a:pt x="22" y="503"/>
                </a:lnTo>
                <a:lnTo>
                  <a:pt x="17" y="496"/>
                </a:lnTo>
                <a:lnTo>
                  <a:pt x="13" y="488"/>
                </a:lnTo>
                <a:lnTo>
                  <a:pt x="13" y="481"/>
                </a:lnTo>
                <a:lnTo>
                  <a:pt x="9" y="474"/>
                </a:lnTo>
                <a:lnTo>
                  <a:pt x="4" y="467"/>
                </a:lnTo>
                <a:lnTo>
                  <a:pt x="4" y="459"/>
                </a:lnTo>
                <a:lnTo>
                  <a:pt x="4" y="452"/>
                </a:lnTo>
                <a:lnTo>
                  <a:pt x="0" y="445"/>
                </a:lnTo>
                <a:lnTo>
                  <a:pt x="0" y="438"/>
                </a:lnTo>
                <a:lnTo>
                  <a:pt x="0" y="430"/>
                </a:lnTo>
                <a:lnTo>
                  <a:pt x="0" y="423"/>
                </a:lnTo>
                <a:lnTo>
                  <a:pt x="0" y="416"/>
                </a:lnTo>
                <a:lnTo>
                  <a:pt x="0" y="409"/>
                </a:lnTo>
                <a:lnTo>
                  <a:pt x="0" y="401"/>
                </a:lnTo>
                <a:lnTo>
                  <a:pt x="0" y="394"/>
                </a:lnTo>
                <a:lnTo>
                  <a:pt x="0" y="387"/>
                </a:lnTo>
                <a:lnTo>
                  <a:pt x="4" y="380"/>
                </a:lnTo>
                <a:lnTo>
                  <a:pt x="4" y="372"/>
                </a:lnTo>
                <a:lnTo>
                  <a:pt x="4" y="365"/>
                </a:lnTo>
                <a:lnTo>
                  <a:pt x="9" y="358"/>
                </a:lnTo>
                <a:lnTo>
                  <a:pt x="13" y="351"/>
                </a:lnTo>
                <a:lnTo>
                  <a:pt x="13" y="343"/>
                </a:lnTo>
                <a:lnTo>
                  <a:pt x="17" y="336"/>
                </a:lnTo>
                <a:lnTo>
                  <a:pt x="22" y="329"/>
                </a:lnTo>
                <a:lnTo>
                  <a:pt x="26" y="322"/>
                </a:lnTo>
                <a:lnTo>
                  <a:pt x="31" y="315"/>
                </a:lnTo>
                <a:lnTo>
                  <a:pt x="35" y="307"/>
                </a:lnTo>
                <a:lnTo>
                  <a:pt x="40" y="300"/>
                </a:lnTo>
                <a:lnTo>
                  <a:pt x="44" y="293"/>
                </a:lnTo>
                <a:lnTo>
                  <a:pt x="49" y="286"/>
                </a:lnTo>
                <a:lnTo>
                  <a:pt x="53" y="278"/>
                </a:lnTo>
                <a:lnTo>
                  <a:pt x="62" y="271"/>
                </a:lnTo>
                <a:lnTo>
                  <a:pt x="66" y="267"/>
                </a:lnTo>
                <a:lnTo>
                  <a:pt x="71" y="260"/>
                </a:lnTo>
                <a:lnTo>
                  <a:pt x="80" y="253"/>
                </a:lnTo>
                <a:lnTo>
                  <a:pt x="89" y="246"/>
                </a:lnTo>
                <a:lnTo>
                  <a:pt x="93" y="238"/>
                </a:lnTo>
                <a:lnTo>
                  <a:pt x="102" y="231"/>
                </a:lnTo>
                <a:lnTo>
                  <a:pt x="111" y="228"/>
                </a:lnTo>
                <a:lnTo>
                  <a:pt x="120" y="220"/>
                </a:lnTo>
                <a:lnTo>
                  <a:pt x="129" y="213"/>
                </a:lnTo>
                <a:lnTo>
                  <a:pt x="133" y="206"/>
                </a:lnTo>
                <a:lnTo>
                  <a:pt x="147" y="202"/>
                </a:lnTo>
                <a:lnTo>
                  <a:pt x="156" y="195"/>
                </a:lnTo>
                <a:lnTo>
                  <a:pt x="164" y="188"/>
                </a:lnTo>
                <a:lnTo>
                  <a:pt x="173" y="181"/>
                </a:lnTo>
                <a:lnTo>
                  <a:pt x="182" y="177"/>
                </a:lnTo>
                <a:lnTo>
                  <a:pt x="196" y="170"/>
                </a:lnTo>
                <a:lnTo>
                  <a:pt x="205" y="166"/>
                </a:lnTo>
                <a:lnTo>
                  <a:pt x="213" y="159"/>
                </a:lnTo>
                <a:lnTo>
                  <a:pt x="227" y="152"/>
                </a:lnTo>
                <a:lnTo>
                  <a:pt x="236" y="148"/>
                </a:lnTo>
                <a:lnTo>
                  <a:pt x="249" y="141"/>
                </a:lnTo>
                <a:lnTo>
                  <a:pt x="262" y="137"/>
                </a:lnTo>
                <a:lnTo>
                  <a:pt x="271" y="130"/>
                </a:lnTo>
                <a:lnTo>
                  <a:pt x="285" y="126"/>
                </a:lnTo>
                <a:lnTo>
                  <a:pt x="298" y="119"/>
                </a:lnTo>
                <a:lnTo>
                  <a:pt x="311" y="115"/>
                </a:lnTo>
                <a:lnTo>
                  <a:pt x="325" y="112"/>
                </a:lnTo>
                <a:lnTo>
                  <a:pt x="338" y="105"/>
                </a:lnTo>
                <a:lnTo>
                  <a:pt x="352" y="101"/>
                </a:lnTo>
                <a:lnTo>
                  <a:pt x="365" y="97"/>
                </a:lnTo>
                <a:lnTo>
                  <a:pt x="378" y="90"/>
                </a:lnTo>
                <a:lnTo>
                  <a:pt x="392" y="86"/>
                </a:lnTo>
                <a:lnTo>
                  <a:pt x="405" y="83"/>
                </a:lnTo>
                <a:lnTo>
                  <a:pt x="418" y="79"/>
                </a:lnTo>
                <a:lnTo>
                  <a:pt x="436" y="76"/>
                </a:lnTo>
                <a:lnTo>
                  <a:pt x="450" y="68"/>
                </a:lnTo>
                <a:lnTo>
                  <a:pt x="463" y="65"/>
                </a:lnTo>
                <a:lnTo>
                  <a:pt x="481" y="61"/>
                </a:lnTo>
                <a:lnTo>
                  <a:pt x="494" y="57"/>
                </a:lnTo>
                <a:lnTo>
                  <a:pt x="507" y="54"/>
                </a:lnTo>
                <a:lnTo>
                  <a:pt x="507" y="54"/>
                </a:lnTo>
                <a:lnTo>
                  <a:pt x="525" y="50"/>
                </a:lnTo>
                <a:lnTo>
                  <a:pt x="543" y="47"/>
                </a:lnTo>
                <a:lnTo>
                  <a:pt x="556" y="43"/>
                </a:lnTo>
                <a:lnTo>
                  <a:pt x="574" y="39"/>
                </a:lnTo>
                <a:lnTo>
                  <a:pt x="588" y="39"/>
                </a:lnTo>
                <a:lnTo>
                  <a:pt x="605" y="36"/>
                </a:lnTo>
                <a:lnTo>
                  <a:pt x="623" y="32"/>
                </a:lnTo>
                <a:lnTo>
                  <a:pt x="637" y="29"/>
                </a:lnTo>
                <a:lnTo>
                  <a:pt x="654" y="25"/>
                </a:lnTo>
                <a:lnTo>
                  <a:pt x="672" y="25"/>
                </a:lnTo>
                <a:lnTo>
                  <a:pt x="690" y="21"/>
                </a:lnTo>
                <a:lnTo>
                  <a:pt x="703" y="18"/>
                </a:lnTo>
                <a:lnTo>
                  <a:pt x="721" y="18"/>
                </a:lnTo>
                <a:lnTo>
                  <a:pt x="739" y="14"/>
                </a:lnTo>
                <a:lnTo>
                  <a:pt x="757" y="14"/>
                </a:lnTo>
                <a:lnTo>
                  <a:pt x="775" y="10"/>
                </a:lnTo>
                <a:lnTo>
                  <a:pt x="793" y="10"/>
                </a:lnTo>
                <a:lnTo>
                  <a:pt x="810" y="7"/>
                </a:lnTo>
                <a:lnTo>
                  <a:pt x="824" y="7"/>
                </a:lnTo>
                <a:lnTo>
                  <a:pt x="842" y="3"/>
                </a:lnTo>
                <a:lnTo>
                  <a:pt x="859" y="3"/>
                </a:lnTo>
                <a:lnTo>
                  <a:pt x="877" y="3"/>
                </a:lnTo>
                <a:lnTo>
                  <a:pt x="895" y="3"/>
                </a:lnTo>
                <a:lnTo>
                  <a:pt x="913" y="0"/>
                </a:lnTo>
                <a:lnTo>
                  <a:pt x="931" y="0"/>
                </a:lnTo>
                <a:lnTo>
                  <a:pt x="949" y="0"/>
                </a:lnTo>
                <a:lnTo>
                  <a:pt x="966" y="0"/>
                </a:lnTo>
                <a:lnTo>
                  <a:pt x="984" y="0"/>
                </a:lnTo>
                <a:lnTo>
                  <a:pt x="1002" y="0"/>
                </a:lnTo>
                <a:lnTo>
                  <a:pt x="1020" y="0"/>
                </a:lnTo>
                <a:lnTo>
                  <a:pt x="1038" y="0"/>
                </a:lnTo>
                <a:lnTo>
                  <a:pt x="1055" y="0"/>
                </a:lnTo>
                <a:lnTo>
                  <a:pt x="1073" y="0"/>
                </a:lnTo>
                <a:lnTo>
                  <a:pt x="1091" y="0"/>
                </a:lnTo>
                <a:lnTo>
                  <a:pt x="1109" y="0"/>
                </a:lnTo>
                <a:lnTo>
                  <a:pt x="1127" y="0"/>
                </a:lnTo>
                <a:lnTo>
                  <a:pt x="1145" y="3"/>
                </a:lnTo>
                <a:lnTo>
                  <a:pt x="1162" y="3"/>
                </a:lnTo>
                <a:lnTo>
                  <a:pt x="1180" y="3"/>
                </a:lnTo>
                <a:lnTo>
                  <a:pt x="1198" y="3"/>
                </a:lnTo>
                <a:lnTo>
                  <a:pt x="1216" y="7"/>
                </a:lnTo>
                <a:lnTo>
                  <a:pt x="1234" y="7"/>
                </a:lnTo>
                <a:lnTo>
                  <a:pt x="1251" y="10"/>
                </a:lnTo>
                <a:lnTo>
                  <a:pt x="1269" y="10"/>
                </a:lnTo>
                <a:lnTo>
                  <a:pt x="1287" y="14"/>
                </a:lnTo>
                <a:lnTo>
                  <a:pt x="1305" y="14"/>
                </a:lnTo>
                <a:lnTo>
                  <a:pt x="1318" y="18"/>
                </a:lnTo>
                <a:lnTo>
                  <a:pt x="1336" y="18"/>
                </a:lnTo>
                <a:lnTo>
                  <a:pt x="1354" y="21"/>
                </a:lnTo>
                <a:lnTo>
                  <a:pt x="1372" y="25"/>
                </a:lnTo>
                <a:lnTo>
                  <a:pt x="1385" y="25"/>
                </a:lnTo>
                <a:lnTo>
                  <a:pt x="1403" y="29"/>
                </a:lnTo>
                <a:lnTo>
                  <a:pt x="1421" y="32"/>
                </a:lnTo>
                <a:lnTo>
                  <a:pt x="1439" y="36"/>
                </a:lnTo>
                <a:lnTo>
                  <a:pt x="1452" y="39"/>
                </a:lnTo>
                <a:lnTo>
                  <a:pt x="1470" y="39"/>
                </a:lnTo>
                <a:lnTo>
                  <a:pt x="1483" y="43"/>
                </a:lnTo>
                <a:lnTo>
                  <a:pt x="1501" y="47"/>
                </a:lnTo>
                <a:lnTo>
                  <a:pt x="1519" y="50"/>
                </a:lnTo>
                <a:lnTo>
                  <a:pt x="1532" y="54"/>
                </a:lnTo>
                <a:lnTo>
                  <a:pt x="1545" y="57"/>
                </a:lnTo>
                <a:lnTo>
                  <a:pt x="1563" y="61"/>
                </a:lnTo>
                <a:lnTo>
                  <a:pt x="1577" y="65"/>
                </a:lnTo>
                <a:lnTo>
                  <a:pt x="1594" y="68"/>
                </a:lnTo>
                <a:lnTo>
                  <a:pt x="1608" y="76"/>
                </a:lnTo>
                <a:lnTo>
                  <a:pt x="1621" y="79"/>
                </a:lnTo>
                <a:lnTo>
                  <a:pt x="1635" y="83"/>
                </a:lnTo>
                <a:lnTo>
                  <a:pt x="1652" y="86"/>
                </a:lnTo>
                <a:lnTo>
                  <a:pt x="1666" y="90"/>
                </a:lnTo>
                <a:lnTo>
                  <a:pt x="1679" y="97"/>
                </a:lnTo>
                <a:lnTo>
                  <a:pt x="1692" y="101"/>
                </a:lnTo>
                <a:lnTo>
                  <a:pt x="1706" y="105"/>
                </a:lnTo>
                <a:lnTo>
                  <a:pt x="1719" y="112"/>
                </a:lnTo>
                <a:lnTo>
                  <a:pt x="1733" y="115"/>
                </a:lnTo>
                <a:lnTo>
                  <a:pt x="1746" y="119"/>
                </a:lnTo>
                <a:lnTo>
                  <a:pt x="1755" y="126"/>
                </a:lnTo>
                <a:lnTo>
                  <a:pt x="1768" y="130"/>
                </a:lnTo>
                <a:lnTo>
                  <a:pt x="1782" y="137"/>
                </a:lnTo>
                <a:lnTo>
                  <a:pt x="1790" y="141"/>
                </a:lnTo>
                <a:lnTo>
                  <a:pt x="1804" y="148"/>
                </a:lnTo>
                <a:lnTo>
                  <a:pt x="1817" y="152"/>
                </a:lnTo>
                <a:lnTo>
                  <a:pt x="1826" y="159"/>
                </a:lnTo>
                <a:lnTo>
                  <a:pt x="1839" y="166"/>
                </a:lnTo>
                <a:lnTo>
                  <a:pt x="1848" y="170"/>
                </a:lnTo>
                <a:lnTo>
                  <a:pt x="1857" y="177"/>
                </a:lnTo>
                <a:lnTo>
                  <a:pt x="1871" y="181"/>
                </a:lnTo>
                <a:lnTo>
                  <a:pt x="1880" y="188"/>
                </a:lnTo>
                <a:lnTo>
                  <a:pt x="1888" y="195"/>
                </a:lnTo>
                <a:lnTo>
                  <a:pt x="1897" y="202"/>
                </a:lnTo>
                <a:lnTo>
                  <a:pt x="1906" y="206"/>
                </a:lnTo>
                <a:lnTo>
                  <a:pt x="1915" y="213"/>
                </a:lnTo>
                <a:lnTo>
                  <a:pt x="1924" y="220"/>
                </a:lnTo>
                <a:lnTo>
                  <a:pt x="1933" y="228"/>
                </a:lnTo>
                <a:lnTo>
                  <a:pt x="1942" y="231"/>
                </a:lnTo>
                <a:lnTo>
                  <a:pt x="1946" y="238"/>
                </a:lnTo>
                <a:lnTo>
                  <a:pt x="1955" y="246"/>
                </a:lnTo>
                <a:lnTo>
                  <a:pt x="1964" y="253"/>
                </a:lnTo>
                <a:lnTo>
                  <a:pt x="1969" y="260"/>
                </a:lnTo>
                <a:lnTo>
                  <a:pt x="1978" y="267"/>
                </a:lnTo>
                <a:lnTo>
                  <a:pt x="1982" y="271"/>
                </a:lnTo>
                <a:lnTo>
                  <a:pt x="1020" y="416"/>
                </a:lnTo>
                <a:lnTo>
                  <a:pt x="236" y="68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27920" y="3430440"/>
            <a:ext cx="225360" cy="782640"/>
          </a:xfrm>
          <a:custGeom>
            <a:avLst/>
            <a:gdLst/>
            <a:ahLst/>
            <a:rect l="l" t="t" r="r" b="b"/>
            <a:pathLst>
              <a:path w="138" h="416">
                <a:moveTo>
                  <a:pt x="138" y="0"/>
                </a:moveTo>
                <a:lnTo>
                  <a:pt x="138" y="7"/>
                </a:lnTo>
                <a:lnTo>
                  <a:pt x="138" y="14"/>
                </a:lnTo>
                <a:lnTo>
                  <a:pt x="134" y="21"/>
                </a:lnTo>
                <a:lnTo>
                  <a:pt x="134" y="29"/>
                </a:lnTo>
                <a:lnTo>
                  <a:pt x="134" y="36"/>
                </a:lnTo>
                <a:lnTo>
                  <a:pt x="129" y="43"/>
                </a:lnTo>
                <a:lnTo>
                  <a:pt x="129" y="50"/>
                </a:lnTo>
                <a:lnTo>
                  <a:pt x="129" y="58"/>
                </a:lnTo>
                <a:lnTo>
                  <a:pt x="125" y="65"/>
                </a:lnTo>
                <a:lnTo>
                  <a:pt x="120" y="72"/>
                </a:lnTo>
                <a:lnTo>
                  <a:pt x="120" y="79"/>
                </a:lnTo>
                <a:lnTo>
                  <a:pt x="116" y="86"/>
                </a:lnTo>
                <a:lnTo>
                  <a:pt x="112" y="94"/>
                </a:lnTo>
                <a:lnTo>
                  <a:pt x="107" y="101"/>
                </a:lnTo>
                <a:lnTo>
                  <a:pt x="103" y="108"/>
                </a:lnTo>
                <a:lnTo>
                  <a:pt x="98" y="115"/>
                </a:lnTo>
                <a:lnTo>
                  <a:pt x="94" y="123"/>
                </a:lnTo>
                <a:lnTo>
                  <a:pt x="89" y="130"/>
                </a:lnTo>
                <a:lnTo>
                  <a:pt x="80" y="137"/>
                </a:lnTo>
                <a:lnTo>
                  <a:pt x="76" y="141"/>
                </a:lnTo>
                <a:lnTo>
                  <a:pt x="71" y="148"/>
                </a:lnTo>
                <a:lnTo>
                  <a:pt x="63" y="155"/>
                </a:lnTo>
                <a:lnTo>
                  <a:pt x="58" y="162"/>
                </a:lnTo>
                <a:lnTo>
                  <a:pt x="49" y="170"/>
                </a:lnTo>
                <a:lnTo>
                  <a:pt x="40" y="177"/>
                </a:lnTo>
                <a:lnTo>
                  <a:pt x="36" y="181"/>
                </a:lnTo>
                <a:lnTo>
                  <a:pt x="27" y="188"/>
                </a:lnTo>
                <a:lnTo>
                  <a:pt x="18" y="195"/>
                </a:lnTo>
                <a:lnTo>
                  <a:pt x="9" y="202"/>
                </a:lnTo>
                <a:lnTo>
                  <a:pt x="0" y="210"/>
                </a:lnTo>
                <a:lnTo>
                  <a:pt x="0" y="416"/>
                </a:lnTo>
                <a:lnTo>
                  <a:pt x="9" y="409"/>
                </a:lnTo>
                <a:lnTo>
                  <a:pt x="18" y="401"/>
                </a:lnTo>
                <a:lnTo>
                  <a:pt x="27" y="394"/>
                </a:lnTo>
                <a:lnTo>
                  <a:pt x="36" y="387"/>
                </a:lnTo>
                <a:lnTo>
                  <a:pt x="40" y="383"/>
                </a:lnTo>
                <a:lnTo>
                  <a:pt x="49" y="376"/>
                </a:lnTo>
                <a:lnTo>
                  <a:pt x="58" y="369"/>
                </a:lnTo>
                <a:lnTo>
                  <a:pt x="63" y="362"/>
                </a:lnTo>
                <a:lnTo>
                  <a:pt x="71" y="354"/>
                </a:lnTo>
                <a:lnTo>
                  <a:pt x="76" y="347"/>
                </a:lnTo>
                <a:lnTo>
                  <a:pt x="80" y="343"/>
                </a:lnTo>
                <a:lnTo>
                  <a:pt x="89" y="336"/>
                </a:lnTo>
                <a:lnTo>
                  <a:pt x="94" y="329"/>
                </a:lnTo>
                <a:lnTo>
                  <a:pt x="98" y="322"/>
                </a:lnTo>
                <a:lnTo>
                  <a:pt x="103" y="315"/>
                </a:lnTo>
                <a:lnTo>
                  <a:pt x="107" y="307"/>
                </a:lnTo>
                <a:lnTo>
                  <a:pt x="112" y="300"/>
                </a:lnTo>
                <a:lnTo>
                  <a:pt x="116" y="293"/>
                </a:lnTo>
                <a:lnTo>
                  <a:pt x="120" y="286"/>
                </a:lnTo>
                <a:lnTo>
                  <a:pt x="120" y="278"/>
                </a:lnTo>
                <a:lnTo>
                  <a:pt x="125" y="271"/>
                </a:lnTo>
                <a:lnTo>
                  <a:pt x="129" y="264"/>
                </a:lnTo>
                <a:lnTo>
                  <a:pt x="129" y="257"/>
                </a:lnTo>
                <a:lnTo>
                  <a:pt x="129" y="249"/>
                </a:lnTo>
                <a:lnTo>
                  <a:pt x="134" y="242"/>
                </a:lnTo>
                <a:lnTo>
                  <a:pt x="134" y="235"/>
                </a:lnTo>
                <a:lnTo>
                  <a:pt x="134" y="228"/>
                </a:lnTo>
                <a:lnTo>
                  <a:pt x="138" y="220"/>
                </a:lnTo>
                <a:lnTo>
                  <a:pt x="138" y="213"/>
                </a:lnTo>
                <a:lnTo>
                  <a:pt x="138" y="206"/>
                </a:lnTo>
                <a:lnTo>
                  <a:pt x="138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3430440"/>
            <a:ext cx="1435320" cy="776520"/>
          </a:xfrm>
          <a:custGeom>
            <a:avLst/>
            <a:gdLst/>
            <a:ahLst/>
            <a:rect l="l" t="t" r="r" b="b"/>
            <a:pathLst>
              <a:path w="886" h="413">
                <a:moveTo>
                  <a:pt x="0" y="0"/>
                </a:moveTo>
                <a:lnTo>
                  <a:pt x="886" y="207"/>
                </a:lnTo>
                <a:lnTo>
                  <a:pt x="886" y="413"/>
                </a:lnTo>
                <a:lnTo>
                  <a:pt x="0" y="207"/>
                </a:lnTo>
                <a:lnTo>
                  <a:pt x="0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2600" y="3162240"/>
            <a:ext cx="1660680" cy="658800"/>
          </a:xfrm>
          <a:custGeom>
            <a:avLst/>
            <a:gdLst/>
            <a:ahLst/>
            <a:rect l="l" t="t" r="r" b="b"/>
            <a:pathLst>
              <a:path w="1024" h="352">
                <a:moveTo>
                  <a:pt x="962" y="0"/>
                </a:moveTo>
                <a:lnTo>
                  <a:pt x="966" y="8"/>
                </a:lnTo>
                <a:lnTo>
                  <a:pt x="975" y="15"/>
                </a:lnTo>
                <a:lnTo>
                  <a:pt x="980" y="22"/>
                </a:lnTo>
                <a:lnTo>
                  <a:pt x="984" y="29"/>
                </a:lnTo>
                <a:lnTo>
                  <a:pt x="989" y="37"/>
                </a:lnTo>
                <a:lnTo>
                  <a:pt x="993" y="44"/>
                </a:lnTo>
                <a:lnTo>
                  <a:pt x="998" y="51"/>
                </a:lnTo>
                <a:lnTo>
                  <a:pt x="1002" y="58"/>
                </a:lnTo>
                <a:lnTo>
                  <a:pt x="1006" y="66"/>
                </a:lnTo>
                <a:lnTo>
                  <a:pt x="1006" y="73"/>
                </a:lnTo>
                <a:lnTo>
                  <a:pt x="1011" y="80"/>
                </a:lnTo>
                <a:lnTo>
                  <a:pt x="1015" y="87"/>
                </a:lnTo>
                <a:lnTo>
                  <a:pt x="1015" y="95"/>
                </a:lnTo>
                <a:lnTo>
                  <a:pt x="1015" y="102"/>
                </a:lnTo>
                <a:lnTo>
                  <a:pt x="1020" y="109"/>
                </a:lnTo>
                <a:lnTo>
                  <a:pt x="1020" y="116"/>
                </a:lnTo>
                <a:lnTo>
                  <a:pt x="1020" y="123"/>
                </a:lnTo>
                <a:lnTo>
                  <a:pt x="1024" y="131"/>
                </a:lnTo>
                <a:lnTo>
                  <a:pt x="1024" y="138"/>
                </a:lnTo>
                <a:lnTo>
                  <a:pt x="1024" y="145"/>
                </a:lnTo>
                <a:lnTo>
                  <a:pt x="1024" y="152"/>
                </a:lnTo>
                <a:lnTo>
                  <a:pt x="1024" y="160"/>
                </a:lnTo>
                <a:lnTo>
                  <a:pt x="1020" y="167"/>
                </a:lnTo>
                <a:lnTo>
                  <a:pt x="1020" y="174"/>
                </a:lnTo>
                <a:lnTo>
                  <a:pt x="1020" y="181"/>
                </a:lnTo>
                <a:lnTo>
                  <a:pt x="1020" y="181"/>
                </a:lnTo>
                <a:lnTo>
                  <a:pt x="1015" y="189"/>
                </a:lnTo>
                <a:lnTo>
                  <a:pt x="1015" y="196"/>
                </a:lnTo>
                <a:lnTo>
                  <a:pt x="1015" y="203"/>
                </a:lnTo>
                <a:lnTo>
                  <a:pt x="1011" y="210"/>
                </a:lnTo>
                <a:lnTo>
                  <a:pt x="1006" y="218"/>
                </a:lnTo>
                <a:lnTo>
                  <a:pt x="1006" y="225"/>
                </a:lnTo>
                <a:lnTo>
                  <a:pt x="1002" y="232"/>
                </a:lnTo>
                <a:lnTo>
                  <a:pt x="998" y="239"/>
                </a:lnTo>
                <a:lnTo>
                  <a:pt x="993" y="247"/>
                </a:lnTo>
                <a:lnTo>
                  <a:pt x="989" y="254"/>
                </a:lnTo>
                <a:lnTo>
                  <a:pt x="984" y="257"/>
                </a:lnTo>
                <a:lnTo>
                  <a:pt x="980" y="265"/>
                </a:lnTo>
                <a:lnTo>
                  <a:pt x="975" y="272"/>
                </a:lnTo>
                <a:lnTo>
                  <a:pt x="966" y="279"/>
                </a:lnTo>
                <a:lnTo>
                  <a:pt x="962" y="286"/>
                </a:lnTo>
                <a:lnTo>
                  <a:pt x="957" y="294"/>
                </a:lnTo>
                <a:lnTo>
                  <a:pt x="949" y="301"/>
                </a:lnTo>
                <a:lnTo>
                  <a:pt x="944" y="308"/>
                </a:lnTo>
                <a:lnTo>
                  <a:pt x="935" y="315"/>
                </a:lnTo>
                <a:lnTo>
                  <a:pt x="926" y="319"/>
                </a:lnTo>
                <a:lnTo>
                  <a:pt x="922" y="326"/>
                </a:lnTo>
                <a:lnTo>
                  <a:pt x="913" y="333"/>
                </a:lnTo>
                <a:lnTo>
                  <a:pt x="904" y="341"/>
                </a:lnTo>
                <a:lnTo>
                  <a:pt x="895" y="348"/>
                </a:lnTo>
                <a:lnTo>
                  <a:pt x="886" y="352"/>
                </a:lnTo>
                <a:lnTo>
                  <a:pt x="0" y="145"/>
                </a:lnTo>
                <a:lnTo>
                  <a:pt x="962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9400" y="3973680"/>
            <a:ext cx="760680" cy="707760"/>
          </a:xfrm>
          <a:custGeom>
            <a:avLst/>
            <a:gdLst/>
            <a:ahLst/>
            <a:rect l="l" t="t" r="r" b="b"/>
            <a:pathLst>
              <a:path w="468" h="377">
                <a:moveTo>
                  <a:pt x="468" y="0"/>
                </a:moveTo>
                <a:lnTo>
                  <a:pt x="459" y="4"/>
                </a:lnTo>
                <a:lnTo>
                  <a:pt x="450" y="11"/>
                </a:lnTo>
                <a:lnTo>
                  <a:pt x="441" y="18"/>
                </a:lnTo>
                <a:lnTo>
                  <a:pt x="432" y="22"/>
                </a:lnTo>
                <a:lnTo>
                  <a:pt x="419" y="29"/>
                </a:lnTo>
                <a:lnTo>
                  <a:pt x="410" y="36"/>
                </a:lnTo>
                <a:lnTo>
                  <a:pt x="401" y="40"/>
                </a:lnTo>
                <a:lnTo>
                  <a:pt x="388" y="47"/>
                </a:lnTo>
                <a:lnTo>
                  <a:pt x="379" y="51"/>
                </a:lnTo>
                <a:lnTo>
                  <a:pt x="365" y="58"/>
                </a:lnTo>
                <a:lnTo>
                  <a:pt x="352" y="62"/>
                </a:lnTo>
                <a:lnTo>
                  <a:pt x="343" y="69"/>
                </a:lnTo>
                <a:lnTo>
                  <a:pt x="330" y="72"/>
                </a:lnTo>
                <a:lnTo>
                  <a:pt x="316" y="80"/>
                </a:lnTo>
                <a:lnTo>
                  <a:pt x="307" y="83"/>
                </a:lnTo>
                <a:lnTo>
                  <a:pt x="294" y="91"/>
                </a:lnTo>
                <a:lnTo>
                  <a:pt x="281" y="94"/>
                </a:lnTo>
                <a:lnTo>
                  <a:pt x="267" y="98"/>
                </a:lnTo>
                <a:lnTo>
                  <a:pt x="254" y="105"/>
                </a:lnTo>
                <a:lnTo>
                  <a:pt x="241" y="109"/>
                </a:lnTo>
                <a:lnTo>
                  <a:pt x="227" y="112"/>
                </a:lnTo>
                <a:lnTo>
                  <a:pt x="214" y="116"/>
                </a:lnTo>
                <a:lnTo>
                  <a:pt x="196" y="123"/>
                </a:lnTo>
                <a:lnTo>
                  <a:pt x="183" y="127"/>
                </a:lnTo>
                <a:lnTo>
                  <a:pt x="169" y="130"/>
                </a:lnTo>
                <a:lnTo>
                  <a:pt x="156" y="134"/>
                </a:lnTo>
                <a:lnTo>
                  <a:pt x="138" y="138"/>
                </a:lnTo>
                <a:lnTo>
                  <a:pt x="125" y="141"/>
                </a:lnTo>
                <a:lnTo>
                  <a:pt x="107" y="145"/>
                </a:lnTo>
                <a:lnTo>
                  <a:pt x="94" y="148"/>
                </a:lnTo>
                <a:lnTo>
                  <a:pt x="80" y="152"/>
                </a:lnTo>
                <a:lnTo>
                  <a:pt x="62" y="156"/>
                </a:lnTo>
                <a:lnTo>
                  <a:pt x="45" y="159"/>
                </a:lnTo>
                <a:lnTo>
                  <a:pt x="31" y="163"/>
                </a:lnTo>
                <a:lnTo>
                  <a:pt x="13" y="167"/>
                </a:lnTo>
                <a:lnTo>
                  <a:pt x="0" y="170"/>
                </a:lnTo>
                <a:lnTo>
                  <a:pt x="0" y="377"/>
                </a:lnTo>
                <a:lnTo>
                  <a:pt x="13" y="373"/>
                </a:lnTo>
                <a:lnTo>
                  <a:pt x="31" y="369"/>
                </a:lnTo>
                <a:lnTo>
                  <a:pt x="45" y="366"/>
                </a:lnTo>
                <a:lnTo>
                  <a:pt x="62" y="362"/>
                </a:lnTo>
                <a:lnTo>
                  <a:pt x="80" y="358"/>
                </a:lnTo>
                <a:lnTo>
                  <a:pt x="94" y="355"/>
                </a:lnTo>
                <a:lnTo>
                  <a:pt x="107" y="351"/>
                </a:lnTo>
                <a:lnTo>
                  <a:pt x="125" y="348"/>
                </a:lnTo>
                <a:lnTo>
                  <a:pt x="138" y="344"/>
                </a:lnTo>
                <a:lnTo>
                  <a:pt x="156" y="340"/>
                </a:lnTo>
                <a:lnTo>
                  <a:pt x="169" y="337"/>
                </a:lnTo>
                <a:lnTo>
                  <a:pt x="183" y="333"/>
                </a:lnTo>
                <a:lnTo>
                  <a:pt x="196" y="329"/>
                </a:lnTo>
                <a:lnTo>
                  <a:pt x="214" y="322"/>
                </a:lnTo>
                <a:lnTo>
                  <a:pt x="227" y="319"/>
                </a:lnTo>
                <a:lnTo>
                  <a:pt x="241" y="315"/>
                </a:lnTo>
                <a:lnTo>
                  <a:pt x="254" y="311"/>
                </a:lnTo>
                <a:lnTo>
                  <a:pt x="267" y="304"/>
                </a:lnTo>
                <a:lnTo>
                  <a:pt x="281" y="301"/>
                </a:lnTo>
                <a:lnTo>
                  <a:pt x="294" y="297"/>
                </a:lnTo>
                <a:lnTo>
                  <a:pt x="307" y="290"/>
                </a:lnTo>
                <a:lnTo>
                  <a:pt x="316" y="286"/>
                </a:lnTo>
                <a:lnTo>
                  <a:pt x="330" y="279"/>
                </a:lnTo>
                <a:lnTo>
                  <a:pt x="343" y="275"/>
                </a:lnTo>
                <a:lnTo>
                  <a:pt x="352" y="268"/>
                </a:lnTo>
                <a:lnTo>
                  <a:pt x="365" y="264"/>
                </a:lnTo>
                <a:lnTo>
                  <a:pt x="379" y="257"/>
                </a:lnTo>
                <a:lnTo>
                  <a:pt x="388" y="253"/>
                </a:lnTo>
                <a:lnTo>
                  <a:pt x="401" y="246"/>
                </a:lnTo>
                <a:lnTo>
                  <a:pt x="410" y="243"/>
                </a:lnTo>
                <a:lnTo>
                  <a:pt x="419" y="235"/>
                </a:lnTo>
                <a:lnTo>
                  <a:pt x="432" y="228"/>
                </a:lnTo>
                <a:lnTo>
                  <a:pt x="441" y="224"/>
                </a:lnTo>
                <a:lnTo>
                  <a:pt x="450" y="217"/>
                </a:lnTo>
                <a:lnTo>
                  <a:pt x="459" y="210"/>
                </a:lnTo>
                <a:lnTo>
                  <a:pt x="468" y="206"/>
                </a:lnTo>
                <a:lnTo>
                  <a:pt x="468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10080" y="3610080"/>
            <a:ext cx="673200" cy="1101600"/>
          </a:xfrm>
          <a:custGeom>
            <a:avLst/>
            <a:gdLst/>
            <a:ahLst/>
            <a:rect l="l" t="t" r="r" b="b"/>
            <a:pathLst>
              <a:path w="415" h="586">
                <a:moveTo>
                  <a:pt x="0" y="0"/>
                </a:moveTo>
                <a:lnTo>
                  <a:pt x="415" y="380"/>
                </a:lnTo>
                <a:lnTo>
                  <a:pt x="415" y="586"/>
                </a:lnTo>
                <a:lnTo>
                  <a:pt x="0" y="206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10080" y="3610080"/>
            <a:ext cx="1440000" cy="714240"/>
          </a:xfrm>
          <a:custGeom>
            <a:avLst/>
            <a:gdLst/>
            <a:ahLst/>
            <a:rect l="l" t="t" r="r" b="b"/>
            <a:pathLst>
              <a:path w="887" h="380">
                <a:moveTo>
                  <a:pt x="887" y="206"/>
                </a:moveTo>
                <a:lnTo>
                  <a:pt x="878" y="213"/>
                </a:lnTo>
                <a:lnTo>
                  <a:pt x="869" y="221"/>
                </a:lnTo>
                <a:lnTo>
                  <a:pt x="860" y="224"/>
                </a:lnTo>
                <a:lnTo>
                  <a:pt x="851" y="231"/>
                </a:lnTo>
                <a:lnTo>
                  <a:pt x="838" y="239"/>
                </a:lnTo>
                <a:lnTo>
                  <a:pt x="829" y="242"/>
                </a:lnTo>
                <a:lnTo>
                  <a:pt x="820" y="249"/>
                </a:lnTo>
                <a:lnTo>
                  <a:pt x="807" y="257"/>
                </a:lnTo>
                <a:lnTo>
                  <a:pt x="798" y="260"/>
                </a:lnTo>
                <a:lnTo>
                  <a:pt x="784" y="268"/>
                </a:lnTo>
                <a:lnTo>
                  <a:pt x="771" y="271"/>
                </a:lnTo>
                <a:lnTo>
                  <a:pt x="762" y="278"/>
                </a:lnTo>
                <a:lnTo>
                  <a:pt x="749" y="282"/>
                </a:lnTo>
                <a:lnTo>
                  <a:pt x="735" y="289"/>
                </a:lnTo>
                <a:lnTo>
                  <a:pt x="726" y="293"/>
                </a:lnTo>
                <a:lnTo>
                  <a:pt x="713" y="297"/>
                </a:lnTo>
                <a:lnTo>
                  <a:pt x="700" y="304"/>
                </a:lnTo>
                <a:lnTo>
                  <a:pt x="686" y="307"/>
                </a:lnTo>
                <a:lnTo>
                  <a:pt x="673" y="315"/>
                </a:lnTo>
                <a:lnTo>
                  <a:pt x="660" y="318"/>
                </a:lnTo>
                <a:lnTo>
                  <a:pt x="646" y="322"/>
                </a:lnTo>
                <a:lnTo>
                  <a:pt x="633" y="326"/>
                </a:lnTo>
                <a:lnTo>
                  <a:pt x="615" y="333"/>
                </a:lnTo>
                <a:lnTo>
                  <a:pt x="602" y="336"/>
                </a:lnTo>
                <a:lnTo>
                  <a:pt x="588" y="340"/>
                </a:lnTo>
                <a:lnTo>
                  <a:pt x="575" y="344"/>
                </a:lnTo>
                <a:lnTo>
                  <a:pt x="557" y="347"/>
                </a:lnTo>
                <a:lnTo>
                  <a:pt x="544" y="351"/>
                </a:lnTo>
                <a:lnTo>
                  <a:pt x="526" y="354"/>
                </a:lnTo>
                <a:lnTo>
                  <a:pt x="513" y="358"/>
                </a:lnTo>
                <a:lnTo>
                  <a:pt x="499" y="362"/>
                </a:lnTo>
                <a:lnTo>
                  <a:pt x="481" y="365"/>
                </a:lnTo>
                <a:lnTo>
                  <a:pt x="464" y="369"/>
                </a:lnTo>
                <a:lnTo>
                  <a:pt x="450" y="373"/>
                </a:lnTo>
                <a:lnTo>
                  <a:pt x="432" y="376"/>
                </a:lnTo>
                <a:lnTo>
                  <a:pt x="419" y="380"/>
                </a:lnTo>
                <a:lnTo>
                  <a:pt x="0" y="0"/>
                </a:lnTo>
                <a:lnTo>
                  <a:pt x="887" y="2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840" y="4152960"/>
            <a:ext cx="1042920" cy="658800"/>
          </a:xfrm>
          <a:custGeom>
            <a:avLst/>
            <a:gdLst/>
            <a:ahLst/>
            <a:rect l="l" t="t" r="r" b="b"/>
            <a:pathLst>
              <a:path w="642" h="351">
                <a:moveTo>
                  <a:pt x="642" y="145"/>
                </a:moveTo>
                <a:lnTo>
                  <a:pt x="624" y="141"/>
                </a:lnTo>
                <a:lnTo>
                  <a:pt x="606" y="141"/>
                </a:lnTo>
                <a:lnTo>
                  <a:pt x="588" y="141"/>
                </a:lnTo>
                <a:lnTo>
                  <a:pt x="575" y="138"/>
                </a:lnTo>
                <a:lnTo>
                  <a:pt x="557" y="138"/>
                </a:lnTo>
                <a:lnTo>
                  <a:pt x="539" y="134"/>
                </a:lnTo>
                <a:lnTo>
                  <a:pt x="521" y="134"/>
                </a:lnTo>
                <a:lnTo>
                  <a:pt x="504" y="130"/>
                </a:lnTo>
                <a:lnTo>
                  <a:pt x="486" y="130"/>
                </a:lnTo>
                <a:lnTo>
                  <a:pt x="468" y="127"/>
                </a:lnTo>
                <a:lnTo>
                  <a:pt x="455" y="127"/>
                </a:lnTo>
                <a:lnTo>
                  <a:pt x="437" y="123"/>
                </a:lnTo>
                <a:lnTo>
                  <a:pt x="419" y="120"/>
                </a:lnTo>
                <a:lnTo>
                  <a:pt x="401" y="116"/>
                </a:lnTo>
                <a:lnTo>
                  <a:pt x="388" y="116"/>
                </a:lnTo>
                <a:lnTo>
                  <a:pt x="370" y="112"/>
                </a:lnTo>
                <a:lnTo>
                  <a:pt x="352" y="109"/>
                </a:lnTo>
                <a:lnTo>
                  <a:pt x="339" y="105"/>
                </a:lnTo>
                <a:lnTo>
                  <a:pt x="321" y="101"/>
                </a:lnTo>
                <a:lnTo>
                  <a:pt x="308" y="98"/>
                </a:lnTo>
                <a:lnTo>
                  <a:pt x="290" y="94"/>
                </a:lnTo>
                <a:lnTo>
                  <a:pt x="272" y="91"/>
                </a:lnTo>
                <a:lnTo>
                  <a:pt x="259" y="87"/>
                </a:lnTo>
                <a:lnTo>
                  <a:pt x="245" y="83"/>
                </a:lnTo>
                <a:lnTo>
                  <a:pt x="227" y="80"/>
                </a:lnTo>
                <a:lnTo>
                  <a:pt x="214" y="76"/>
                </a:lnTo>
                <a:lnTo>
                  <a:pt x="201" y="72"/>
                </a:lnTo>
                <a:lnTo>
                  <a:pt x="183" y="69"/>
                </a:lnTo>
                <a:lnTo>
                  <a:pt x="169" y="65"/>
                </a:lnTo>
                <a:lnTo>
                  <a:pt x="156" y="58"/>
                </a:lnTo>
                <a:lnTo>
                  <a:pt x="143" y="54"/>
                </a:lnTo>
                <a:lnTo>
                  <a:pt x="129" y="51"/>
                </a:lnTo>
                <a:lnTo>
                  <a:pt x="116" y="47"/>
                </a:lnTo>
                <a:lnTo>
                  <a:pt x="103" y="40"/>
                </a:lnTo>
                <a:lnTo>
                  <a:pt x="89" y="36"/>
                </a:lnTo>
                <a:lnTo>
                  <a:pt x="76" y="33"/>
                </a:lnTo>
                <a:lnTo>
                  <a:pt x="63" y="25"/>
                </a:lnTo>
                <a:lnTo>
                  <a:pt x="49" y="22"/>
                </a:lnTo>
                <a:lnTo>
                  <a:pt x="36" y="15"/>
                </a:lnTo>
                <a:lnTo>
                  <a:pt x="27" y="11"/>
                </a:lnTo>
                <a:lnTo>
                  <a:pt x="14" y="4"/>
                </a:lnTo>
                <a:lnTo>
                  <a:pt x="0" y="0"/>
                </a:lnTo>
                <a:lnTo>
                  <a:pt x="0" y="206"/>
                </a:lnTo>
                <a:lnTo>
                  <a:pt x="14" y="210"/>
                </a:lnTo>
                <a:lnTo>
                  <a:pt x="27" y="217"/>
                </a:lnTo>
                <a:lnTo>
                  <a:pt x="36" y="221"/>
                </a:lnTo>
                <a:lnTo>
                  <a:pt x="49" y="228"/>
                </a:lnTo>
                <a:lnTo>
                  <a:pt x="63" y="232"/>
                </a:lnTo>
                <a:lnTo>
                  <a:pt x="76" y="239"/>
                </a:lnTo>
                <a:lnTo>
                  <a:pt x="89" y="243"/>
                </a:lnTo>
                <a:lnTo>
                  <a:pt x="103" y="246"/>
                </a:lnTo>
                <a:lnTo>
                  <a:pt x="116" y="253"/>
                </a:lnTo>
                <a:lnTo>
                  <a:pt x="129" y="257"/>
                </a:lnTo>
                <a:lnTo>
                  <a:pt x="143" y="261"/>
                </a:lnTo>
                <a:lnTo>
                  <a:pt x="156" y="264"/>
                </a:lnTo>
                <a:lnTo>
                  <a:pt x="169" y="272"/>
                </a:lnTo>
                <a:lnTo>
                  <a:pt x="183" y="275"/>
                </a:lnTo>
                <a:lnTo>
                  <a:pt x="201" y="279"/>
                </a:lnTo>
                <a:lnTo>
                  <a:pt x="214" y="282"/>
                </a:lnTo>
                <a:lnTo>
                  <a:pt x="227" y="286"/>
                </a:lnTo>
                <a:lnTo>
                  <a:pt x="245" y="290"/>
                </a:lnTo>
                <a:lnTo>
                  <a:pt x="259" y="293"/>
                </a:lnTo>
                <a:lnTo>
                  <a:pt x="272" y="297"/>
                </a:lnTo>
                <a:lnTo>
                  <a:pt x="290" y="301"/>
                </a:lnTo>
                <a:lnTo>
                  <a:pt x="308" y="304"/>
                </a:lnTo>
                <a:lnTo>
                  <a:pt x="321" y="308"/>
                </a:lnTo>
                <a:lnTo>
                  <a:pt x="339" y="311"/>
                </a:lnTo>
                <a:lnTo>
                  <a:pt x="352" y="315"/>
                </a:lnTo>
                <a:lnTo>
                  <a:pt x="370" y="319"/>
                </a:lnTo>
                <a:lnTo>
                  <a:pt x="388" y="322"/>
                </a:lnTo>
                <a:lnTo>
                  <a:pt x="401" y="322"/>
                </a:lnTo>
                <a:lnTo>
                  <a:pt x="419" y="326"/>
                </a:lnTo>
                <a:lnTo>
                  <a:pt x="437" y="329"/>
                </a:lnTo>
                <a:lnTo>
                  <a:pt x="455" y="333"/>
                </a:lnTo>
                <a:lnTo>
                  <a:pt x="468" y="333"/>
                </a:lnTo>
                <a:lnTo>
                  <a:pt x="486" y="337"/>
                </a:lnTo>
                <a:lnTo>
                  <a:pt x="504" y="337"/>
                </a:lnTo>
                <a:lnTo>
                  <a:pt x="521" y="340"/>
                </a:lnTo>
                <a:lnTo>
                  <a:pt x="539" y="340"/>
                </a:lnTo>
                <a:lnTo>
                  <a:pt x="557" y="344"/>
                </a:lnTo>
                <a:lnTo>
                  <a:pt x="575" y="344"/>
                </a:lnTo>
                <a:lnTo>
                  <a:pt x="588" y="348"/>
                </a:lnTo>
                <a:lnTo>
                  <a:pt x="606" y="348"/>
                </a:lnTo>
                <a:lnTo>
                  <a:pt x="624" y="348"/>
                </a:lnTo>
                <a:lnTo>
                  <a:pt x="642" y="351"/>
                </a:lnTo>
                <a:lnTo>
                  <a:pt x="642" y="14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1760" y="3701880"/>
            <a:ext cx="230040" cy="1162080"/>
          </a:xfrm>
          <a:custGeom>
            <a:avLst/>
            <a:gdLst/>
            <a:ahLst/>
            <a:rect l="l" t="t" r="r" b="b"/>
            <a:pathLst>
              <a:path w="142" h="619">
                <a:moveTo>
                  <a:pt x="142" y="0"/>
                </a:moveTo>
                <a:lnTo>
                  <a:pt x="0" y="412"/>
                </a:lnTo>
                <a:lnTo>
                  <a:pt x="0" y="619"/>
                </a:lnTo>
                <a:lnTo>
                  <a:pt x="142" y="206"/>
                </a:lnTo>
                <a:lnTo>
                  <a:pt x="142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8840" y="3701880"/>
            <a:ext cx="1272960" cy="773280"/>
          </a:xfrm>
          <a:custGeom>
            <a:avLst/>
            <a:gdLst/>
            <a:ahLst/>
            <a:rect l="l" t="t" r="r" b="b"/>
            <a:pathLst>
              <a:path w="784" h="412">
                <a:moveTo>
                  <a:pt x="642" y="412"/>
                </a:moveTo>
                <a:lnTo>
                  <a:pt x="624" y="409"/>
                </a:lnTo>
                <a:lnTo>
                  <a:pt x="606" y="409"/>
                </a:lnTo>
                <a:lnTo>
                  <a:pt x="588" y="409"/>
                </a:lnTo>
                <a:lnTo>
                  <a:pt x="575" y="405"/>
                </a:lnTo>
                <a:lnTo>
                  <a:pt x="557" y="405"/>
                </a:lnTo>
                <a:lnTo>
                  <a:pt x="539" y="402"/>
                </a:lnTo>
                <a:lnTo>
                  <a:pt x="521" y="402"/>
                </a:lnTo>
                <a:lnTo>
                  <a:pt x="504" y="398"/>
                </a:lnTo>
                <a:lnTo>
                  <a:pt x="486" y="398"/>
                </a:lnTo>
                <a:lnTo>
                  <a:pt x="468" y="394"/>
                </a:lnTo>
                <a:lnTo>
                  <a:pt x="455" y="391"/>
                </a:lnTo>
                <a:lnTo>
                  <a:pt x="437" y="391"/>
                </a:lnTo>
                <a:lnTo>
                  <a:pt x="419" y="387"/>
                </a:lnTo>
                <a:lnTo>
                  <a:pt x="401" y="384"/>
                </a:lnTo>
                <a:lnTo>
                  <a:pt x="388" y="384"/>
                </a:lnTo>
                <a:lnTo>
                  <a:pt x="370" y="380"/>
                </a:lnTo>
                <a:lnTo>
                  <a:pt x="352" y="376"/>
                </a:lnTo>
                <a:lnTo>
                  <a:pt x="339" y="373"/>
                </a:lnTo>
                <a:lnTo>
                  <a:pt x="321" y="369"/>
                </a:lnTo>
                <a:lnTo>
                  <a:pt x="308" y="365"/>
                </a:lnTo>
                <a:lnTo>
                  <a:pt x="290" y="362"/>
                </a:lnTo>
                <a:lnTo>
                  <a:pt x="272" y="358"/>
                </a:lnTo>
                <a:lnTo>
                  <a:pt x="259" y="355"/>
                </a:lnTo>
                <a:lnTo>
                  <a:pt x="245" y="351"/>
                </a:lnTo>
                <a:lnTo>
                  <a:pt x="227" y="347"/>
                </a:lnTo>
                <a:lnTo>
                  <a:pt x="214" y="344"/>
                </a:lnTo>
                <a:lnTo>
                  <a:pt x="201" y="340"/>
                </a:lnTo>
                <a:lnTo>
                  <a:pt x="183" y="336"/>
                </a:lnTo>
                <a:lnTo>
                  <a:pt x="169" y="333"/>
                </a:lnTo>
                <a:lnTo>
                  <a:pt x="156" y="326"/>
                </a:lnTo>
                <a:lnTo>
                  <a:pt x="143" y="322"/>
                </a:lnTo>
                <a:lnTo>
                  <a:pt x="129" y="318"/>
                </a:lnTo>
                <a:lnTo>
                  <a:pt x="116" y="315"/>
                </a:lnTo>
                <a:lnTo>
                  <a:pt x="103" y="308"/>
                </a:lnTo>
                <a:lnTo>
                  <a:pt x="89" y="304"/>
                </a:lnTo>
                <a:lnTo>
                  <a:pt x="76" y="297"/>
                </a:lnTo>
                <a:lnTo>
                  <a:pt x="63" y="293"/>
                </a:lnTo>
                <a:lnTo>
                  <a:pt x="49" y="289"/>
                </a:lnTo>
                <a:lnTo>
                  <a:pt x="36" y="282"/>
                </a:lnTo>
                <a:lnTo>
                  <a:pt x="27" y="279"/>
                </a:lnTo>
                <a:lnTo>
                  <a:pt x="14" y="271"/>
                </a:lnTo>
                <a:lnTo>
                  <a:pt x="0" y="268"/>
                </a:lnTo>
                <a:lnTo>
                  <a:pt x="784" y="0"/>
                </a:lnTo>
                <a:lnTo>
                  <a:pt x="642" y="4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7720" y="4332240"/>
            <a:ext cx="912960" cy="457200"/>
          </a:xfrm>
          <a:custGeom>
            <a:avLst/>
            <a:gdLst/>
            <a:ahLst/>
            <a:rect l="l" t="t" r="r" b="b"/>
            <a:pathLst>
              <a:path w="561" h="243">
                <a:moveTo>
                  <a:pt x="561" y="0"/>
                </a:moveTo>
                <a:lnTo>
                  <a:pt x="543" y="4"/>
                </a:lnTo>
                <a:lnTo>
                  <a:pt x="525" y="4"/>
                </a:lnTo>
                <a:lnTo>
                  <a:pt x="507" y="8"/>
                </a:lnTo>
                <a:lnTo>
                  <a:pt x="494" y="11"/>
                </a:lnTo>
                <a:lnTo>
                  <a:pt x="476" y="15"/>
                </a:lnTo>
                <a:lnTo>
                  <a:pt x="458" y="15"/>
                </a:lnTo>
                <a:lnTo>
                  <a:pt x="441" y="18"/>
                </a:lnTo>
                <a:lnTo>
                  <a:pt x="427" y="18"/>
                </a:lnTo>
                <a:lnTo>
                  <a:pt x="409" y="22"/>
                </a:lnTo>
                <a:lnTo>
                  <a:pt x="392" y="22"/>
                </a:lnTo>
                <a:lnTo>
                  <a:pt x="374" y="26"/>
                </a:lnTo>
                <a:lnTo>
                  <a:pt x="356" y="26"/>
                </a:lnTo>
                <a:lnTo>
                  <a:pt x="338" y="29"/>
                </a:lnTo>
                <a:lnTo>
                  <a:pt x="320" y="29"/>
                </a:lnTo>
                <a:lnTo>
                  <a:pt x="302" y="29"/>
                </a:lnTo>
                <a:lnTo>
                  <a:pt x="285" y="33"/>
                </a:lnTo>
                <a:lnTo>
                  <a:pt x="285" y="33"/>
                </a:lnTo>
                <a:lnTo>
                  <a:pt x="267" y="33"/>
                </a:lnTo>
                <a:lnTo>
                  <a:pt x="249" y="33"/>
                </a:lnTo>
                <a:lnTo>
                  <a:pt x="231" y="33"/>
                </a:lnTo>
                <a:lnTo>
                  <a:pt x="213" y="33"/>
                </a:lnTo>
                <a:lnTo>
                  <a:pt x="196" y="37"/>
                </a:lnTo>
                <a:lnTo>
                  <a:pt x="178" y="37"/>
                </a:lnTo>
                <a:lnTo>
                  <a:pt x="160" y="37"/>
                </a:lnTo>
                <a:lnTo>
                  <a:pt x="142" y="37"/>
                </a:lnTo>
                <a:lnTo>
                  <a:pt x="124" y="37"/>
                </a:lnTo>
                <a:lnTo>
                  <a:pt x="106" y="37"/>
                </a:lnTo>
                <a:lnTo>
                  <a:pt x="89" y="37"/>
                </a:lnTo>
                <a:lnTo>
                  <a:pt x="71" y="33"/>
                </a:lnTo>
                <a:lnTo>
                  <a:pt x="53" y="33"/>
                </a:lnTo>
                <a:lnTo>
                  <a:pt x="35" y="33"/>
                </a:lnTo>
                <a:lnTo>
                  <a:pt x="17" y="33"/>
                </a:lnTo>
                <a:lnTo>
                  <a:pt x="0" y="33"/>
                </a:lnTo>
                <a:lnTo>
                  <a:pt x="0" y="239"/>
                </a:lnTo>
                <a:lnTo>
                  <a:pt x="17" y="239"/>
                </a:lnTo>
                <a:lnTo>
                  <a:pt x="35" y="239"/>
                </a:lnTo>
                <a:lnTo>
                  <a:pt x="53" y="239"/>
                </a:lnTo>
                <a:lnTo>
                  <a:pt x="71" y="239"/>
                </a:lnTo>
                <a:lnTo>
                  <a:pt x="89" y="243"/>
                </a:lnTo>
                <a:lnTo>
                  <a:pt x="106" y="243"/>
                </a:lnTo>
                <a:lnTo>
                  <a:pt x="124" y="243"/>
                </a:lnTo>
                <a:lnTo>
                  <a:pt x="142" y="243"/>
                </a:lnTo>
                <a:lnTo>
                  <a:pt x="160" y="243"/>
                </a:lnTo>
                <a:lnTo>
                  <a:pt x="178" y="243"/>
                </a:lnTo>
                <a:lnTo>
                  <a:pt x="196" y="243"/>
                </a:lnTo>
                <a:lnTo>
                  <a:pt x="213" y="239"/>
                </a:lnTo>
                <a:lnTo>
                  <a:pt x="231" y="239"/>
                </a:lnTo>
                <a:lnTo>
                  <a:pt x="249" y="239"/>
                </a:lnTo>
                <a:lnTo>
                  <a:pt x="267" y="239"/>
                </a:lnTo>
                <a:lnTo>
                  <a:pt x="285" y="239"/>
                </a:lnTo>
                <a:lnTo>
                  <a:pt x="285" y="239"/>
                </a:lnTo>
                <a:lnTo>
                  <a:pt x="302" y="236"/>
                </a:lnTo>
                <a:lnTo>
                  <a:pt x="320" y="236"/>
                </a:lnTo>
                <a:lnTo>
                  <a:pt x="338" y="236"/>
                </a:lnTo>
                <a:lnTo>
                  <a:pt x="356" y="232"/>
                </a:lnTo>
                <a:lnTo>
                  <a:pt x="374" y="232"/>
                </a:lnTo>
                <a:lnTo>
                  <a:pt x="392" y="228"/>
                </a:lnTo>
                <a:lnTo>
                  <a:pt x="409" y="228"/>
                </a:lnTo>
                <a:lnTo>
                  <a:pt x="427" y="225"/>
                </a:lnTo>
                <a:lnTo>
                  <a:pt x="441" y="225"/>
                </a:lnTo>
                <a:lnTo>
                  <a:pt x="458" y="221"/>
                </a:lnTo>
                <a:lnTo>
                  <a:pt x="476" y="221"/>
                </a:lnTo>
                <a:lnTo>
                  <a:pt x="494" y="218"/>
                </a:lnTo>
                <a:lnTo>
                  <a:pt x="507" y="214"/>
                </a:lnTo>
                <a:lnTo>
                  <a:pt x="525" y="210"/>
                </a:lnTo>
                <a:lnTo>
                  <a:pt x="543" y="210"/>
                </a:lnTo>
                <a:lnTo>
                  <a:pt x="561" y="207"/>
                </a:lnTo>
                <a:lnTo>
                  <a:pt x="56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87720" y="3701880"/>
            <a:ext cx="912960" cy="782640"/>
          </a:xfrm>
          <a:custGeom>
            <a:avLst/>
            <a:gdLst/>
            <a:ahLst/>
            <a:rect l="l" t="t" r="r" b="b"/>
            <a:pathLst>
              <a:path w="561" h="416">
                <a:moveTo>
                  <a:pt x="561" y="380"/>
                </a:moveTo>
                <a:lnTo>
                  <a:pt x="543" y="384"/>
                </a:lnTo>
                <a:lnTo>
                  <a:pt x="525" y="384"/>
                </a:lnTo>
                <a:lnTo>
                  <a:pt x="507" y="387"/>
                </a:lnTo>
                <a:lnTo>
                  <a:pt x="494" y="391"/>
                </a:lnTo>
                <a:lnTo>
                  <a:pt x="476" y="391"/>
                </a:lnTo>
                <a:lnTo>
                  <a:pt x="458" y="394"/>
                </a:lnTo>
                <a:lnTo>
                  <a:pt x="441" y="398"/>
                </a:lnTo>
                <a:lnTo>
                  <a:pt x="427" y="398"/>
                </a:lnTo>
                <a:lnTo>
                  <a:pt x="409" y="402"/>
                </a:lnTo>
                <a:lnTo>
                  <a:pt x="392" y="402"/>
                </a:lnTo>
                <a:lnTo>
                  <a:pt x="374" y="405"/>
                </a:lnTo>
                <a:lnTo>
                  <a:pt x="356" y="405"/>
                </a:lnTo>
                <a:lnTo>
                  <a:pt x="338" y="409"/>
                </a:lnTo>
                <a:lnTo>
                  <a:pt x="320" y="409"/>
                </a:lnTo>
                <a:lnTo>
                  <a:pt x="302" y="409"/>
                </a:lnTo>
                <a:lnTo>
                  <a:pt x="285" y="413"/>
                </a:lnTo>
                <a:lnTo>
                  <a:pt x="285" y="413"/>
                </a:lnTo>
                <a:lnTo>
                  <a:pt x="267" y="413"/>
                </a:lnTo>
                <a:lnTo>
                  <a:pt x="249" y="413"/>
                </a:lnTo>
                <a:lnTo>
                  <a:pt x="231" y="413"/>
                </a:lnTo>
                <a:lnTo>
                  <a:pt x="213" y="413"/>
                </a:lnTo>
                <a:lnTo>
                  <a:pt x="196" y="416"/>
                </a:lnTo>
                <a:lnTo>
                  <a:pt x="178" y="416"/>
                </a:lnTo>
                <a:lnTo>
                  <a:pt x="160" y="416"/>
                </a:lnTo>
                <a:lnTo>
                  <a:pt x="142" y="416"/>
                </a:lnTo>
                <a:lnTo>
                  <a:pt x="124" y="416"/>
                </a:lnTo>
                <a:lnTo>
                  <a:pt x="106" y="416"/>
                </a:lnTo>
                <a:lnTo>
                  <a:pt x="89" y="416"/>
                </a:lnTo>
                <a:lnTo>
                  <a:pt x="71" y="413"/>
                </a:lnTo>
                <a:lnTo>
                  <a:pt x="53" y="413"/>
                </a:lnTo>
                <a:lnTo>
                  <a:pt x="35" y="413"/>
                </a:lnTo>
                <a:lnTo>
                  <a:pt x="17" y="413"/>
                </a:lnTo>
                <a:lnTo>
                  <a:pt x="0" y="413"/>
                </a:lnTo>
                <a:lnTo>
                  <a:pt x="142" y="0"/>
                </a:lnTo>
                <a:lnTo>
                  <a:pt x="561" y="3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7400" y="472428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12880" y="489276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10,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0600" y="4782960"/>
            <a:ext cx="44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x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35920" y="495288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3680" y="458640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opec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1040" y="481500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0520" y="324468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squ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68560" y="350532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37840" y="2209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ería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160" y="237492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58768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58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99120" y="5486400"/>
            <a:ext cx="103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ff0000"/>
                </a:solidFill>
                <a:latin typeface="Times New Roman"/>
              </a:rPr>
              <a:t>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3520" y="-55440"/>
            <a:ext cx="4800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8380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Generador de Divi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629320"/>
            <a:ext cx="3200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Total: 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8,863.27 US$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9AD4-D20D-4281-80C3-FFFA08ECEE5F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D04972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1774800"/>
            <a:ext cx="5867640" cy="372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2133720"/>
            <a:ext cx="66294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estos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tracción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4,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60,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114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Cluster Pesquero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86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3040" y="519588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cc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3333cc"/>
                </a:solidFill>
                <a:latin typeface="Times New Roman"/>
              </a:rPr>
              <a:t>Sociedad Nacional de Pesqu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-55440"/>
            <a:ext cx="48006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2716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Times New Roman"/>
              </a:rPr>
              <a:t>Generación de Empleo</a:t>
            </a:r>
            <a:r>
              <a:rPr b="0" i="1" lang="es-P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2000" spc="-1" strike="noStrike">
                <a:solidFill>
                  <a:srgbClr val="ff0000"/>
                </a:solidFill>
                <a:latin typeface="Times New Roman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6386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Más de 1´000,000 de personas se benefician con el  trabajo del se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6FF2-CC94-4261-982A-3B31D20EA910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122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GRANDES UNIDAD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4320" y="1827360"/>
            <a:ext cx="3505320" cy="21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5800" y="1459080"/>
            <a:ext cx="1228680" cy="529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ES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2768760"/>
            <a:ext cx="183348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SER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22400" y="2782800"/>
            <a:ext cx="1785960" cy="533520"/>
          </a:xfrm>
          <a:prstGeom prst="rect">
            <a:avLst/>
          </a:prstGeom>
          <a:solidFill>
            <a:srgbClr val="aa9ffd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HA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448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2436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3424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4480" y="2427120"/>
            <a:ext cx="40197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24360" y="2046240"/>
            <a:ext cx="0" cy="40176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448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9480" y="1576440"/>
            <a:ext cx="11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Times New Roman"/>
              </a:rPr>
              <a:t>Flot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9400" y="3849840"/>
            <a:ext cx="13888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Volúmen 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márgenes 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liquidez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8400" y="1527120"/>
            <a:ext cx="892080" cy="301680"/>
          </a:xfrm>
          <a:custGeom>
            <a:avLst/>
            <a:gdLst>
              <a:gd name="textAreaLeft" fmla="*/ 111240 w 892080"/>
              <a:gd name="textAreaRight" fmla="*/ 780840 w 892080"/>
              <a:gd name="textAreaTop" fmla="*/ 75240 h 301680"/>
              <a:gd name="textAreaBottom" fmla="*/ 2264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5297400"/>
            <a:ext cx="85680" cy="513000"/>
          </a:xfrm>
          <a:custGeom>
            <a:avLst/>
            <a:gdLst>
              <a:gd name="textAreaLeft" fmla="*/ 54720 w 85680"/>
              <a:gd name="textAreaRight" fmla="*/ 86040 w 85680"/>
              <a:gd name="textAreaTop" fmla="*/ 13320 h 513000"/>
              <a:gd name="textAreaBottom" fmla="*/ 499680 h 5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370480"/>
            <a:ext cx="1774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3300"/>
                </a:solidFill>
                <a:latin typeface="Times New Roman"/>
              </a:rPr>
              <a:t>Limit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2773440"/>
            <a:ext cx="183204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GEL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4240" y="330192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7680" y="5257800"/>
            <a:ext cx="198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Modernización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6280" y="5257800"/>
            <a:ext cx="26226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Eficiencia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1960" y="5257800"/>
            <a:ext cx="261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Capacidad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89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700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80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8137-2C6B-46D0-BDF7-49A4C3DF8388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533160" cy="45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4124160"/>
            <a:ext cx="533160" cy="447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7964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nchov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7760" y="404352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Jurel/Caballa/S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7400" y="44244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120" y="480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120" y="51865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ota" descr=""/>
          <p:cNvPicPr/>
          <p:nvPr/>
        </p:nvPicPr>
        <p:blipFill>
          <a:blip r:embed="rId4"/>
          <a:stretch/>
        </p:blipFill>
        <p:spPr>
          <a:xfrm>
            <a:off x="457200" y="503856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merluza" descr=""/>
          <p:cNvPicPr/>
          <p:nvPr/>
        </p:nvPicPr>
        <p:blipFill>
          <a:blip r:embed="rId5"/>
          <a:stretch/>
        </p:blipFill>
        <p:spPr>
          <a:xfrm>
            <a:off x="533520" y="4581360"/>
            <a:ext cx="533160" cy="44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8120" y="2376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5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209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Harina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120" y="2590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c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960" y="44337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6960" y="40528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ge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5160" y="48150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Fre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5880" y="51958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urado,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740.6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638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0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42.8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495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44.9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844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9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226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0.4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6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20.7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272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207.2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79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20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5638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9277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1,027.9 mill.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371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dades de       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1371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752480" y="48765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48002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46483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4343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1148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2860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Total Sect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480" y="351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SECTOR  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7040" y="-3024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COMPORT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EE47-F2DD-43A8-934F-1B674BDDF18D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ESEMBA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(cant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82320" y="4006800"/>
            <a:ext cx="5027040" cy="2317320"/>
            <a:chOff x="382320" y="4006800"/>
            <a:chExt cx="5027040" cy="2317320"/>
          </a:xfrm>
        </p:grpSpPr>
        <p:sp>
          <p:nvSpPr>
            <p:cNvPr id="200" name=""/>
            <p:cNvSpPr/>
            <p:nvPr/>
          </p:nvSpPr>
          <p:spPr>
            <a:xfrm>
              <a:off x="1231560" y="5568480"/>
              <a:ext cx="131040" cy="360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9720" y="5709600"/>
              <a:ext cx="122040" cy="219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9240" y="5771160"/>
              <a:ext cx="132480" cy="158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47400" y="5700960"/>
              <a:ext cx="12132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6560" y="5586120"/>
              <a:ext cx="132480" cy="343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56520" y="5332680"/>
              <a:ext cx="119520" cy="59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3520" y="5235840"/>
              <a:ext cx="132840" cy="693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4200" y="4717800"/>
              <a:ext cx="132480" cy="1211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1640" y="4815000"/>
              <a:ext cx="122040" cy="111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71160" y="4989240"/>
              <a:ext cx="132480" cy="9403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81480" y="5394600"/>
              <a:ext cx="122040" cy="534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4612320"/>
              <a:ext cx="132840" cy="131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8440" y="5657040"/>
              <a:ext cx="122040" cy="27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5440" y="5535000"/>
              <a:ext cx="132840" cy="39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4515480"/>
              <a:ext cx="1800" cy="141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9080" y="592956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9080" y="57888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99080" y="56480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99080" y="550872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9080" y="53676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99080" y="52272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99080" y="50774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080" y="493848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080" y="479736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99080" y="46566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9080" y="451548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929560"/>
              <a:ext cx="426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43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4511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75032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061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357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667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964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75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585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82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192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489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80024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990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40720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8520" y="5665680"/>
              <a:ext cx="2970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5520" y="5665680"/>
              <a:ext cx="30996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480" y="5665680"/>
              <a:ext cx="307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3640" y="5665680"/>
              <a:ext cx="298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3480" y="5147640"/>
              <a:ext cx="296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1976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3044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2744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776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772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472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540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8640" y="4006800"/>
              <a:ext cx="325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sembarque Nacional de Jurel y Cabal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T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040" y="585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560" y="57182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" y="55774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560" y="5438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560" y="52974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3560" y="51562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560" y="5006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560" y="48675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3560" y="47268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560" y="45860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2320" y="4445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1150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447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1757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20660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369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6776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972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2828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584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89448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202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4499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80564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5068800" y="610956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7200" y="5715000"/>
            <a:ext cx="822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4476600"/>
            <a:ext cx="307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A partir de setiembre del 2002, por R.M. 007-2002-PRODUCE estableció que la pesca de Jurel y Caballa se destinaría exclusivamente al  CH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4280" y="99072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les d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51936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66"/>
                </a:solidFill>
                <a:latin typeface="Times New Roman"/>
              </a:rPr>
              <a:t>Fuente: Ministerio de la Produ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8080" y="1495440"/>
            <a:ext cx="342108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7360" y="1495440"/>
            <a:ext cx="1589040" cy="22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84960" y="1495440"/>
            <a:ext cx="156060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70320" y="17193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57920" y="17193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17193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70320" y="19162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7920" y="19162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18520" y="19162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70320" y="211284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7920" y="211284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8520" y="211284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70320" y="23097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57920" y="23097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8520" y="23097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70320" y="25066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7920" y="25066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18520" y="25066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320" y="270360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57920" y="270360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8520" y="270360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70320" y="290052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57920" y="290052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8520" y="290052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70320" y="309708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7920" y="309708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8520" y="309708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70320" y="3294000"/>
            <a:ext cx="5288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57920" y="3294000"/>
            <a:ext cx="528480" cy="20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8520" y="3294000"/>
            <a:ext cx="5270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3240" y="151452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EMBAR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2160" y="17226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300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,1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602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232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024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76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9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400" y="17226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0576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900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764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3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66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4908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06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17880" y="19191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4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602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232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10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76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1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19400" y="19191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576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86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764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5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066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4908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392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3600" y="212076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chove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268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,9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70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01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848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44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,1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16160" y="21207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360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83920" y="212076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732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,5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034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465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30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5040" y="231768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ras Espec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8920" y="23176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7720" y="23176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33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344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5800" y="2317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16880" y="2317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25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6248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73200" y="23176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03400" y="231768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4656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3080" y="23176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9440" y="250992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1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60960" y="2509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35880" y="25099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95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0340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2509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25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277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44320" y="27115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es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589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77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337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848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465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16520" y="2711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3680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724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053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041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01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330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3960" y="290844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erv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89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77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37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848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65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16520" y="290844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3680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4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053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041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01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330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4680" y="31050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gel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89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77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337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48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5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16520" y="310500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3680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724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053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041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01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330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4320" y="32986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482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80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226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344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358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16880" y="3298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2572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624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946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44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90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212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29640" y="1501920"/>
            <a:ext cx="141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2000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5000" y="15019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70720" y="1501920"/>
            <a:ext cx="122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10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89240" y="1909800"/>
            <a:ext cx="18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89240" y="1909800"/>
            <a:ext cx="18367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9720" y="1909800"/>
            <a:ext cx="153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9720" y="1909800"/>
            <a:ext cx="153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8520" y="1909800"/>
            <a:ext cx="156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8520" y="1909800"/>
            <a:ext cx="1563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65120" y="1482840"/>
            <a:ext cx="24120" cy="20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59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847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32600" y="1506600"/>
            <a:ext cx="2412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89240" y="148284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06400"/>
            <a:ext cx="656748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96120" y="1909800"/>
            <a:ext cx="153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6120" y="1909800"/>
            <a:ext cx="153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89240" y="348768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1905120"/>
            <a:ext cx="7617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5B76-F11B-438E-AC64-39132CA58BE7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66680" y="5029200"/>
            <a:ext cx="647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Fuente: 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-316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U.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93024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5840" y="928800"/>
            <a:ext cx="80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Mayor valor unitario de exportación de diferentes productos Pesquer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00" y="3189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XPORTACIONES PESQU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0" y="15238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xportaciones entre Volumen: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$ FOB / TM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724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*Varios: Curado, Fresco, Peces vivos, Diver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160" y="2278080"/>
            <a:ext cx="97308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01800" y="2278080"/>
            <a:ext cx="3497400" cy="33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97400" y="2278080"/>
            <a:ext cx="301644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160" y="2610000"/>
            <a:ext cx="973080" cy="196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0944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6520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452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7132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3356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288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75000" y="2333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46600" y="2625840"/>
            <a:ext cx="1645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m. Po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57760" y="262584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0000" y="26258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61360" y="26258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21440" y="261612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02240" y="261612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5040" y="2616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78120" y="26161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7560" y="2971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43560" y="296388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o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0944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302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396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7132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018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112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9800" y="297180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7560" y="3295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40040" y="328788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r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09440" y="3295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30280" y="3295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39600" y="3295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71320" y="328788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1880" y="328788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11200" y="3287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37800" y="32878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67560" y="36194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30040" y="3619440"/>
            <a:ext cx="152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l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9440" y="3619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0280" y="3619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39600" y="3619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71320" y="36115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01880" y="361152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11200" y="3611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70560" y="361152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67560" y="39416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10960" y="394164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16080" y="39416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394164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20760" y="39416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9760" y="39355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07640" y="393552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22520" y="3935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37800" y="39355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67560" y="427032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27440" y="4254480"/>
            <a:ext cx="83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16080" y="42703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38560" y="427032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20760" y="42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9760" y="42544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07640" y="425448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22520" y="4254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45000" y="425448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17560" y="2265480"/>
            <a:ext cx="25560" cy="232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89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13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848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4848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0880" y="2290680"/>
            <a:ext cx="2412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3120" y="2265480"/>
            <a:ext cx="74818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43120" y="259884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3120" y="456732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05EA-F9A7-40D2-BC9C-33BD647DE052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09480" y="762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La mayor ventaja competitiva de la Industria de Harina/Aceite de Pescado Peruana a nivel mundial es su disponibilidad al recurso Anchoveta garantizado por la pesca responsa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19720" y="2666880"/>
            <a:ext cx="396216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oducción mundial estable (6,467 TM promedio anu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productor a nivel mundial = 30,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exportador a nivel mundial = 43,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ESCA RESPONSABLE producto de vedas reproductivas y cuotas por biomasa, aseguran el sostenimiento de la esp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6248520"/>
            <a:ext cx="347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000066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3718080" cy="1699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2590920" cy="1989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15960" y="1758960"/>
            <a:ext cx="34686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3480" y="1762200"/>
            <a:ext cx="309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CION MUNDIAL DE HARINA DE PES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217D4-DA46-4670-A70B-FC17FEA97F5A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27:29Z</dcterms:created>
  <dc:creator>AREA DE SISTEMAS</dc:creator>
  <dc:description/>
  <dc:language>en-US</dc:language>
  <cp:lastModifiedBy>miguell</cp:lastModifiedBy>
  <dcterms:modified xsi:type="dcterms:W3CDTF">2004-03-30T18:00:04Z</dcterms:modified>
  <cp:revision>295</cp:revision>
  <dc:subject/>
  <dc:title>Presentación de PowerPoint</dc:title>
</cp:coreProperties>
</file>